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gif" ContentType="image/gif"/>
  <Override PartName="/ppt/media/image5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4.jpeg" ContentType="image/jpeg"/>
  <Override PartName="/ppt/media/image5.jpeg" ContentType="image/jpeg"/>
  <Override PartName="/ppt/media/image50.png" ContentType="image/png"/>
  <Override PartName="/ppt/media/image32.png" ContentType="image/png"/>
  <Override PartName="/ppt/media/image33.jpeg" ContentType="image/jpeg"/>
  <Override PartName="/ppt/media/image6.jpeg" ContentType="image/jpeg"/>
  <Override PartName="/ppt/media/image36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52.png" ContentType="image/png"/>
  <Override PartName="/ppt/media/image43.png" ContentType="image/png"/>
  <Override PartName="/ppt/media/image45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49.png" ContentType="image/png"/>
  <Override PartName="/ppt/media/image9.png" ContentType="image/png"/>
  <Override PartName="/ppt/media/image46.gif" ContentType="image/gif"/>
  <Override PartName="/ppt/media/image40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12.jpeg" ContentType="image/jpeg"/>
  <Override PartName="/ppt/media/image48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034-1546-422C-BE14-26CD8CC2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EBE-3F5E-46FD-8472-3FBAA4E9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AAA-8A7B-4A1B-B9E9-20C6DA14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D0F-C5E9-47F8-9FED-4EF1DD40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218A-FACA-40FE-A2F2-A57B8C5C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49F-FA33-4279-95EF-591EA131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28A8-2C60-4CE0-B482-A672DD7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AF0-2291-4AAC-95E6-84F1F796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313-160B-4C9A-AFBE-CB4DF68F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618-2122-427F-9385-33E4B1C3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AB5-DA82-41D3-B9F0-C182CC7A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3CE-5C95-4CF4-8C31-7AC0D890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0890-23BD-4FE0-8BCB-89BFA6B1C0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tkrvo.km.ua/storinki/vydavnycha_files/013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g-fotki.yandex.ru/get/3207/nashenasledie2008.4/0_1c713_b584e142_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ros-biz.ru/big_img/3/4883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mrcpk.marsu.ru/works_iso/2007-10-08-sovetsky/bulygina/doks/harpsichord1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usical-market.ru/img/spinet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afishagoroda.ru/spic.php?picn=MEvents/city/poster_70.jpg&amp;dx=430&amp;dy=609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ianoland.ru/images/image003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hyperlink" Target="http://corpuscul.net/uploads/2009/01/051.jpg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img-2006-04.photosight.ru/13/1376430.jpg" TargetMode="External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beltukoff.ru/waves/images/high.gif" TargetMode="External"/><Relationship Id="rId3" Type="http://schemas.openxmlformats.org/officeDocument/2006/relationships/image" Target="../media/image24.png"/><Relationship Id="rId4" Type="http://schemas.openxmlformats.org/officeDocument/2006/relationships/hyperlink" Target="http://www.beltukoff.ru/waves/images/quiet.gif" TargetMode="External"/><Relationship Id="rId5" Type="http://schemas.openxmlformats.org/officeDocument/2006/relationships/image" Target="../media/image25.png"/><Relationship Id="rId6" Type="http://schemas.openxmlformats.org/officeDocument/2006/relationships/hyperlink" Target="http://www.beltukoff.ru/waves/images/loud.gif" TargetMode="External"/><Relationship Id="rId7" Type="http://schemas.openxmlformats.org/officeDocument/2006/relationships/image" Target="../media/image26.png"/><Relationship Id="rId8" Type="http://schemas.openxmlformats.org/officeDocument/2006/relationships/hyperlink" Target="http://chelyaby-priut.ucoz.ru/_ph/12/1/249846120.jpg" TargetMode="External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.piccy.kiev.ua/i2/2e/26/8b8826bb085070a3eeb2883e7fbe.jpeg" TargetMode="External"/><Relationship Id="rId3" Type="http://schemas.openxmlformats.org/officeDocument/2006/relationships/image" Target="../media/image28.png"/><Relationship Id="rId4" Type="http://schemas.openxmlformats.org/officeDocument/2006/relationships/hyperlink" Target="http://sonovoxproducciones.webs.com/sonido.jpg" TargetMode="External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5.jpeg"/><Relationship Id="rId3" Type="http://schemas.openxmlformats.org/officeDocument/2006/relationships/image" Target="../media/image46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Физика и 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921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зика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считается точной нау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а музы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это что-то более возвышенное, создающее настрое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Многим людям невдомёк,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что между физ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й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и музы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й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чень много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общ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то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к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соприкоснов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же в глубокой древности люди научились создавать музыкальные инструменты и заложили основы науки о звуках – аку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3708360" y="148428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137440" cy="647640"/>
          </a:xfrm>
          <a:prstGeom prst="rect">
            <a:avLst/>
          </a:prstGeom>
          <a:solidFill>
            <a:srgbClr val="4343f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Родословная</a:t>
            </a: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 клавишны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Картинка 17 из 13176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981000"/>
            <a:ext cx="5019480" cy="568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8"/>
          <p:cNvSpPr/>
          <p:nvPr/>
        </p:nvSpPr>
        <p:spPr>
          <a:xfrm>
            <a:off x="3708360" y="5950080"/>
            <a:ext cx="1224000" cy="360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635280" y="4941720"/>
            <a:ext cx="1440000" cy="360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ВИ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2843280" y="4005360"/>
            <a:ext cx="1439640" cy="360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АВЕС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572000" y="3357720"/>
            <a:ext cx="1152360" cy="360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И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76720" y="1700280"/>
            <a:ext cx="1800000" cy="576360"/>
          </a:xfrm>
          <a:prstGeom prst="rect">
            <a:avLst/>
          </a:prstGeom>
          <a:solidFill>
            <a:srgbClr val="0033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ТЕПИ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13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9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Орг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681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 - самый старый духовой клавишный инструмент (у него нет струн, а есть множество тру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 является непосредственным родственником фортепиан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Картинка 6 из 855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35400" y="1484280"/>
            <a:ext cx="3802320" cy="4176720"/>
          </a:xfrm>
          <a:prstGeom prst="rect">
            <a:avLst/>
          </a:prstGeom>
          <a:ln w="0">
            <a:noFill/>
          </a:ln>
        </p:spPr>
      </p:pic>
      <p:sp>
        <p:nvSpPr>
          <p:cNvPr id="116" name="Line 13"/>
          <p:cNvSpPr/>
          <p:nvPr/>
        </p:nvSpPr>
        <p:spPr>
          <a:xfrm>
            <a:off x="611280" y="1989000"/>
            <a:ext cx="108108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Клавик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6516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викорд - первый клавишный инструмент, у которого были струны. Его звук был слишком мягким и тихим для того, чтобы на нем можно было играть перед большим количеством людей. Это был достаточно популярный инструмент домашнего музицирования, в том числе и у Баха.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артинка 2 из 30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1916280"/>
            <a:ext cx="3241440" cy="3143160"/>
          </a:xfrm>
          <a:prstGeom prst="rect">
            <a:avLst/>
          </a:prstGeom>
          <a:ln w="0">
            <a:noFill/>
          </a:ln>
        </p:spPr>
      </p:pic>
      <p:sp>
        <p:nvSpPr>
          <p:cNvPr id="121" name="Line 8"/>
          <p:cNvSpPr/>
          <p:nvPr/>
        </p:nvSpPr>
        <p:spPr>
          <a:xfrm>
            <a:off x="971640" y="1989000"/>
            <a:ext cx="216036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3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ff66"/>
                </a:solidFill>
                <a:latin typeface="Arial"/>
              </a:rPr>
              <a:t>Клавес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7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авесин - был изобретен в Италии в XV веке. Струны клавесина расположены параллельно клавишам, как у современного рояля. Звук клавесина - довольно слабый, не очень-то пригодный для исполнения музыки в больших залах. Обычно клавесин использовался для аккомпанемента… 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2" descr="Картинка 2 из 494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1916280"/>
            <a:ext cx="3292560" cy="3313080"/>
          </a:xfrm>
          <a:prstGeom prst="rect">
            <a:avLst/>
          </a:prstGeom>
          <a:ln w="0">
            <a:noFill/>
          </a:ln>
        </p:spPr>
      </p:pic>
      <p:sp>
        <p:nvSpPr>
          <p:cNvPr id="126" name="Line 14"/>
          <p:cNvSpPr/>
          <p:nvPr/>
        </p:nvSpPr>
        <p:spPr>
          <a:xfrm>
            <a:off x="755640" y="1989000"/>
            <a:ext cx="172872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66"/>
                </a:solidFill>
                <a:latin typeface="Arial"/>
              </a:rPr>
              <a:t>Спи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007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инет - это маленький клавесин с одной или двумя клавиатурами. Он был богато декорирован и потому являлся таким же украшением дома, как красивая меб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Картинка 4 из 5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59280" y="1341360"/>
            <a:ext cx="3791160" cy="5229360"/>
          </a:xfrm>
          <a:prstGeom prst="rect">
            <a:avLst/>
          </a:prstGeom>
          <a:ln w="0">
            <a:noFill/>
          </a:ln>
        </p:spPr>
      </p:pic>
      <p:sp>
        <p:nvSpPr>
          <p:cNvPr id="131" name="Line 8"/>
          <p:cNvSpPr/>
          <p:nvPr/>
        </p:nvSpPr>
        <p:spPr>
          <a:xfrm>
            <a:off x="395280" y="2060640"/>
            <a:ext cx="122400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66"/>
                </a:solidFill>
                <a:latin typeface="Arial"/>
              </a:rPr>
              <a:t>Фортепиа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07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тепиан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широко распространенный музыкальный инструмент, в европейской музыке Нового времени. Этот инструмент,от главных своих предшественников —отличается тем, что звук в нем извлекается ударом молоточка по стру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Картинка 19 из 19457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95880" y="1413000"/>
            <a:ext cx="3767040" cy="4752720"/>
          </a:xfrm>
          <a:prstGeom prst="rect">
            <a:avLst/>
          </a:prstGeom>
          <a:ln w="0">
            <a:noFill/>
          </a:ln>
        </p:spPr>
      </p:pic>
      <p:sp>
        <p:nvSpPr>
          <p:cNvPr id="136" name="Line 8"/>
          <p:cNvSpPr/>
          <p:nvPr/>
        </p:nvSpPr>
        <p:spPr>
          <a:xfrm>
            <a:off x="971640" y="2133720"/>
            <a:ext cx="216036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Безимени-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324000" y="0"/>
            <a:ext cx="85788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Times New Roman"/>
              </a:rPr>
              <a:t>Как же устроено фортепиано?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788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Как же устроено фортепиано?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00844[1]"/>
          <p:cNvPicPr/>
          <p:nvPr/>
        </p:nvPicPr>
        <p:blipFill>
          <a:blip r:embed="rId2"/>
          <a:stretch/>
        </p:blipFill>
        <p:spPr>
          <a:xfrm>
            <a:off x="2627280" y="4005360"/>
            <a:ext cx="4033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тепианная меха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 в фортепиано извлекается ударением молоточка о струны. Струны с помощью колков натянуты на резонансную де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ка  -  ответственная деталь. Она не только усиливает звук, но и участвует в формировании тембра инструмента, причем так деятельно, что от струнного звука мало что остается -  мы слышим звучание дер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Картинка 7 из 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4869000"/>
            <a:ext cx="3166920" cy="1749240"/>
          </a:xfrm>
          <a:prstGeom prst="rect">
            <a:avLst/>
          </a:prstGeom>
          <a:ln w="0">
            <a:noFill/>
          </a:ln>
        </p:spPr>
      </p:pic>
      <p:sp>
        <p:nvSpPr>
          <p:cNvPr id="145" name="Line 8"/>
          <p:cNvSpPr/>
          <p:nvPr/>
        </p:nvSpPr>
        <p:spPr>
          <a:xfrm>
            <a:off x="1692360" y="1197000"/>
            <a:ext cx="590400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6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5"/>
          <p:cNvSpPr/>
          <p:nvPr/>
        </p:nvSpPr>
        <p:spPr>
          <a:xfrm>
            <a:off x="5867280" y="2276640"/>
            <a:ext cx="3025800" cy="31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3276720" y="2492280"/>
            <a:ext cx="23749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468360" y="2205000"/>
            <a:ext cx="23032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3059280" y="765000"/>
            <a:ext cx="2808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11280" y="1844640"/>
            <a:ext cx="1728720" cy="360360"/>
          </a:xfrm>
          <a:prstGeom prst="rect">
            <a:avLst/>
          </a:prstGeom>
          <a:solidFill>
            <a:srgbClr val="362d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348000" y="2133720"/>
            <a:ext cx="2016000" cy="360360"/>
          </a:xfrm>
          <a:prstGeom prst="rect">
            <a:avLst/>
          </a:prstGeom>
          <a:solidFill>
            <a:srgbClr val="362d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6084720" y="1916280"/>
            <a:ext cx="1872000" cy="360360"/>
          </a:xfrm>
          <a:prstGeom prst="rect">
            <a:avLst/>
          </a:prstGeom>
          <a:solidFill>
            <a:srgbClr val="362d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2de7"/>
                </a:solidFill>
                <a:latin typeface="Arial"/>
              </a:rPr>
              <a:t>Педал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72000" y="1916280"/>
            <a:ext cx="3672000" cy="46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авая пед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нимает сразу все демпферы, так что после отпускания клавиши, струны продолжают звучать. Кроме того, все остальные струны инструмента также начинают вибрировать, становясь вторичным источником звук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95280" y="1844640"/>
            <a:ext cx="244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Левая пед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пользуется для ослабления звучания. В роялях это достигается сдвигом молоточков влево, так что вместо трёх струн хора они ударяют только по дву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3348000" y="2133720"/>
            <a:ext cx="23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яя педа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а, как и правая педаль, может служить для игры legato, но не будет обогащать звук вибрацией остальных стру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 rot="3270000">
            <a:off x="2302920" y="1088640"/>
            <a:ext cx="287280" cy="792360"/>
          </a:xfrm>
          <a:prstGeom prst="downArrow">
            <a:avLst>
              <a:gd name="adj1" fmla="val 50000"/>
              <a:gd name="adj2" fmla="val 68954"/>
            </a:avLst>
          </a:prstGeom>
          <a:solidFill>
            <a:srgbClr val="ff00ff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8"/>
          <p:cNvSpPr/>
          <p:nvPr/>
        </p:nvSpPr>
        <p:spPr>
          <a:xfrm rot="18348600">
            <a:off x="6192360" y="1160280"/>
            <a:ext cx="287280" cy="792360"/>
          </a:xfrm>
          <a:prstGeom prst="downArrow">
            <a:avLst>
              <a:gd name="adj1" fmla="val 50000"/>
              <a:gd name="adj2" fmla="val 68954"/>
            </a:avLst>
          </a:prstGeom>
          <a:solidFill>
            <a:srgbClr val="ff00ff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9"/>
          <p:cNvSpPr/>
          <p:nvPr/>
        </p:nvSpPr>
        <p:spPr>
          <a:xfrm>
            <a:off x="4356000" y="1628640"/>
            <a:ext cx="179640" cy="325440"/>
          </a:xfrm>
          <a:prstGeom prst="downArrow">
            <a:avLst>
              <a:gd name="adj1" fmla="val 50000"/>
              <a:gd name="adj2" fmla="val 45291"/>
            </a:avLst>
          </a:prstGeom>
          <a:solidFill>
            <a:srgbClr val="ff00ff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2" descr="db_pic_a[1]"/>
          <p:cNvPicPr/>
          <p:nvPr/>
        </p:nvPicPr>
        <p:blipFill>
          <a:blip r:embed="rId2"/>
          <a:stretch/>
        </p:blipFill>
        <p:spPr>
          <a:xfrm>
            <a:off x="3348000" y="4941720"/>
            <a:ext cx="2232000" cy="17258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3"/>
          <p:cNvSpPr/>
          <p:nvPr/>
        </p:nvSpPr>
        <p:spPr>
          <a:xfrm rot="3270000">
            <a:off x="5796360" y="5157000"/>
            <a:ext cx="142920" cy="1008360"/>
          </a:xfrm>
          <a:prstGeom prst="downArrow">
            <a:avLst>
              <a:gd name="adj1" fmla="val 50000"/>
              <a:gd name="adj2" fmla="val 176385"/>
            </a:avLst>
          </a:prstGeom>
          <a:solidFill>
            <a:srgbClr val="ffff00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4"/>
          <p:cNvSpPr/>
          <p:nvPr/>
        </p:nvSpPr>
        <p:spPr>
          <a:xfrm>
            <a:off x="4284720" y="4581360"/>
            <a:ext cx="142920" cy="1152720"/>
          </a:xfrm>
          <a:prstGeom prst="downArrow">
            <a:avLst>
              <a:gd name="adj1" fmla="val 50000"/>
              <a:gd name="adj2" fmla="val 201637"/>
            </a:avLst>
          </a:prstGeom>
          <a:solidFill>
            <a:srgbClr val="ffff00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5"/>
          <p:cNvSpPr/>
          <p:nvPr/>
        </p:nvSpPr>
        <p:spPr>
          <a:xfrm rot="18348600">
            <a:off x="2751120" y="4673160"/>
            <a:ext cx="214200" cy="1614600"/>
          </a:xfrm>
          <a:prstGeom prst="downArrow">
            <a:avLst>
              <a:gd name="adj1" fmla="val 50000"/>
              <a:gd name="adj2" fmla="val 188445"/>
            </a:avLst>
          </a:prstGeom>
          <a:solidFill>
            <a:srgbClr val="ffff00"/>
          </a:solidFill>
          <a:ln w="9360">
            <a:solidFill>
              <a:srgbClr val="4343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Внутренности» фортепиа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лоточек фортепиано состоит из деревянного керна и войлочной гол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уны фортепиано изготавливаются из специальной струнной проволоки, обладающ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сокой однородность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чными диаметр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еделенной упруг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пластич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Механизм Киркмена"/>
          <p:cNvPicPr/>
          <p:nvPr/>
        </p:nvPicPr>
        <p:blipFill>
          <a:blip r:embed="rId2"/>
          <a:stretch/>
        </p:blipFill>
        <p:spPr>
          <a:xfrm>
            <a:off x="1403280" y="4869000"/>
            <a:ext cx="6696000" cy="1771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Картинка 1 из 6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771640"/>
            <a:ext cx="2232000" cy="167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Картинка 3 из 50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2852640"/>
            <a:ext cx="2808360" cy="1860480"/>
          </a:xfrm>
          <a:prstGeom prst="rect">
            <a:avLst/>
          </a:prstGeom>
          <a:ln w="0">
            <a:noFill/>
          </a:ln>
        </p:spPr>
      </p:pic>
      <p:sp>
        <p:nvSpPr>
          <p:cNvPr id="171" name="Line 11"/>
          <p:cNvSpPr/>
          <p:nvPr/>
        </p:nvSpPr>
        <p:spPr>
          <a:xfrm>
            <a:off x="1116000" y="907920"/>
            <a:ext cx="360036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82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этом учебном году мы узнали на уроках физики, что любой звук рождается колеблющимся телом и представляет собой продольную механическую волну, распространяющуюся обычно в воздухе, познакомились с объективными и субъективными характеристиками звуков, узнали, в чём отличие музыкальных звуков от шу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51421[1]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 звуках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 том, как рождаются звуки, люди начали догадываться очень давно. Замечали, что звук создают вибрирующие в воздухе тела. Аристотель объяснил природу звука, полагая, что звучащее тело создаёт попеременное сжатие и разрежение звук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руна колеблется и при этом  возникают упругие вол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лны - это возмущения, распространяющиеся с конечной скоростью в пространстве и несущие с собой энергию без переноса вещества. А упругие волны – это механические возмущения, распространяющиеся в упругой (твердой, жидкой или газообразной)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Картинка 96 из 2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1871640" cy="1625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Картинка 96 из 2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64440" y="3213000"/>
            <a:ext cx="1879560" cy="1631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Картинка 96 из 2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19280" y="3213000"/>
            <a:ext cx="1879560" cy="1631880"/>
          </a:xfrm>
          <a:prstGeom prst="rect">
            <a:avLst/>
          </a:prstGeom>
          <a:ln w="0">
            <a:noFill/>
          </a:ln>
        </p:spPr>
      </p:pic>
      <p:sp>
        <p:nvSpPr>
          <p:cNvPr id="178" name="Line 15"/>
          <p:cNvSpPr/>
          <p:nvPr/>
        </p:nvSpPr>
        <p:spPr>
          <a:xfrm>
            <a:off x="826920" y="5229360"/>
            <a:ext cx="720720" cy="0"/>
          </a:xfrm>
          <a:prstGeom prst="line">
            <a:avLst/>
          </a:prstGeom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9" descr="Картинка 8 из 1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332000" y="0"/>
            <a:ext cx="8506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3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2245 C 0.08073 -0.025 0.08837 -0.02592 0.09826 -0.02245 C 0.10434 -0.01689 0.10989 -0.01157 0.11614 -0.00671 C 0.11736 -0.00462 0.11805 -0.00185 0.11979 -0.00023 C 0.12118 0.00093 0.12326 -4.81480999999992E-006 0.12448 0.00116 C 0.1276 0.00417 0.13281 0.01227 0.13281 0.01227 C 0.13368 0.01575 0.13646 0.01829 0.13646 0.022 C 0.13646 0.03264 0.13455 0.03264 0.13159 0.03936 C 0.13003 0.04283 0.12969 0.047 0.12812 0.05047 C 0.12222 0.06274 0.11423 0.072 0.10659 0.08218 C 0.10521 0.08403 0.10451 0.08681 0.10312 0.08866 C 0.10017 0.09306 0.0967 0.097 0.09357 0.10116 C 0.08975 0.10625 0.07066 0.12315 0.06857 0.125 C 0.06614 0.12709 0.06423 0.1301 0.06146 0.13149 C 0.05503 0.13473 0.05451 0.1345 0.04826 0.13936 C 0.04149 0.14445 0.03455 0.14954 0.02691 0.15209 C 0.01562 0.16042 0.00451 0.16852 -0.00643 0.17755 C -0.01459 0.18426 -0.02049 0.19399 -0.02917 0.19977 C -0.03334 0.20672 -0.03785 0.21042 -0.04219 0.21713 C -0.04931 0.22825 -0.05417 0.24098 -0.06129 0.25209 C -0.06285 0.25834 -0.0658 0.26459 -0.06719 0.27107 C -0.06927 0.28033 -0.06841 0.29028 -0.07084 0.29977 C -0.07031 0.32963 -0.07153 0.36019 -0.06841 0.39005 C -0.06684 0.4044 -0.04896 0.43426 -0.04219 0.44723 C -0.04097 0.45579 -0.03768 0.46389 -0.03386 0.47107 C -0.0316 0.4801 -0.02917 0.48658 -0.02917 0.49653 E">
                                      <p:cBhvr>
                                        <p:cTn id="38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38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39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9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5142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Картинка 58 из 1748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3500280"/>
            <a:ext cx="29433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Картинка 105 из 1748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333360"/>
            <a:ext cx="3889440" cy="3338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94920" y="1530360"/>
            <a:ext cx="828036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24000" y="189000"/>
            <a:ext cx="8353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стигая </a:t>
            </a:r>
            <a:r>
              <a:rPr b="1" lang="ru-RU" sz="2000" spc="-1" strike="noStrike">
                <a:solidFill>
                  <a:srgbClr val="f1d0c1"/>
                </a:solidFill>
                <a:latin typeface="Times New Roman"/>
              </a:rPr>
              <a:t>ух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звуковые волны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уют на барабанны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понки и вызывают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щущения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слух челове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ринимает упругие волны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ющие частоту в предел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 16 Гц до 20 кГ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соответствии с этим упругие волны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юбой среде, частоты которых лежа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казанных пределах, называют звуком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15142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4920" y="1530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24000" y="1197000"/>
            <a:ext cx="85676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узыкальные звуки различаются п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емб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- специфическая окраска, которая зависит от материала, величины и формы инструмен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324000" y="40464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Характеристики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468360" y="2852640"/>
            <a:ext cx="1728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619280" y="3860640"/>
            <a:ext cx="1728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б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2627280" y="2781360"/>
            <a:ext cx="1728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4861080" y="2781360"/>
            <a:ext cx="3958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должительности звуч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780000" y="3860640"/>
            <a:ext cx="17287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 rot="8053200">
            <a:off x="1150560" y="231300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5400000">
            <a:off x="3274920" y="2205000"/>
            <a:ext cx="576360" cy="287280"/>
          </a:xfrm>
          <a:prstGeom prst="rightArrow">
            <a:avLst>
              <a:gd name="adj1" fmla="val 50000"/>
              <a:gd name="adj2" fmla="val 50157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2691600">
            <a:off x="5364000" y="2278080"/>
            <a:ext cx="792360" cy="287280"/>
          </a:xfrm>
          <a:prstGeom prst="rightArrow">
            <a:avLst>
              <a:gd name="adj1" fmla="val 50000"/>
              <a:gd name="adj2" fmla="val 68954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8"/>
          <p:cNvSpPr/>
          <p:nvPr/>
        </p:nvSpPr>
        <p:spPr>
          <a:xfrm rot="5256600">
            <a:off x="1584720" y="2815200"/>
            <a:ext cx="1582920" cy="216000"/>
          </a:xfrm>
          <a:prstGeom prst="rightArrow">
            <a:avLst>
              <a:gd name="adj1" fmla="val 50000"/>
              <a:gd name="adj2" fmla="val 183208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0"/>
          <p:cNvSpPr/>
          <p:nvPr/>
        </p:nvSpPr>
        <p:spPr>
          <a:xfrm rot="5256600">
            <a:off x="3816000" y="2815920"/>
            <a:ext cx="1584360" cy="215640"/>
          </a:xfrm>
          <a:prstGeom prst="rightArrow">
            <a:avLst>
              <a:gd name="adj1" fmla="val 50000"/>
              <a:gd name="adj2" fmla="val 183681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2" descr="i?id=56593413-04"/>
          <p:cNvPicPr/>
          <p:nvPr/>
        </p:nvPicPr>
        <p:blipFill>
          <a:blip r:embed="rId2"/>
          <a:stretch/>
        </p:blipFill>
        <p:spPr>
          <a:xfrm>
            <a:off x="7020000" y="1341360"/>
            <a:ext cx="1430280" cy="1143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6" descr="i?id=133748971-06"/>
          <p:cNvPicPr/>
          <p:nvPr/>
        </p:nvPicPr>
        <p:blipFill>
          <a:blip r:embed="rId3"/>
          <a:stretch/>
        </p:blipFill>
        <p:spPr>
          <a:xfrm>
            <a:off x="395280" y="333360"/>
            <a:ext cx="1152360" cy="852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0" descr="i?id=17141641-02"/>
          <p:cNvPicPr/>
          <p:nvPr/>
        </p:nvPicPr>
        <p:blipFill>
          <a:blip r:embed="rId4"/>
          <a:stretch/>
        </p:blipFill>
        <p:spPr>
          <a:xfrm>
            <a:off x="6516720" y="3645000"/>
            <a:ext cx="116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0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8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51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кала громк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63280" y="1341360"/>
            <a:ext cx="692316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ог слышимости — 0д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епот — 20 д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льная речь — 40 дБ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к — 80 д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й оркестр — 100 д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 в ушах — I8О д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i?id=156637355-06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6732720" y="1916280"/>
            <a:ext cx="2016000" cy="113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i?id=121939927-06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732720" y="3573360"/>
            <a:ext cx="2089080" cy="1440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i?id=158572547-0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179280" y="836640"/>
            <a:ext cx="1728720" cy="1332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Картинка 1 из 201672"/>
          <p:cNvPicPr/>
          <p:nvPr/>
        </p:nvPicPr>
        <p:blipFill>
          <a:blip r:embed="rId5"/>
          <a:stretch/>
        </p:blipFill>
        <p:spPr>
          <a:xfrm>
            <a:off x="108000" y="2781360"/>
            <a:ext cx="1800000" cy="143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Картинка 14 из 191225"/>
          <p:cNvPicPr/>
          <p:nvPr/>
        </p:nvPicPr>
        <p:blipFill>
          <a:blip r:embed="rId6"/>
          <a:stretch/>
        </p:blipFill>
        <p:spPr>
          <a:xfrm>
            <a:off x="179280" y="4869000"/>
            <a:ext cx="1656000" cy="114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Картинка 26 из 253724"/>
          <p:cNvPicPr/>
          <p:nvPr/>
        </p:nvPicPr>
        <p:blipFill>
          <a:blip r:embed="rId7">
            <a:lum contrast="48000"/>
          </a:blip>
          <a:stretch/>
        </p:blipFill>
        <p:spPr>
          <a:xfrm>
            <a:off x="6804000" y="5373720"/>
            <a:ext cx="1979640" cy="131904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24"/>
          <p:cNvSpPr/>
          <p:nvPr/>
        </p:nvSpPr>
        <p:spPr>
          <a:xfrm>
            <a:off x="2050920" y="1916280"/>
            <a:ext cx="1441440" cy="360360"/>
          </a:xfrm>
          <a:custGeom>
            <a:avLst/>
            <a:gdLst>
              <a:gd name="textAreaLeft" fmla="*/ 0 w 1441440"/>
              <a:gd name="textAreaRight" fmla="*/ 1235520 w 144144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5"/>
          <p:cNvSpPr/>
          <p:nvPr/>
        </p:nvSpPr>
        <p:spPr>
          <a:xfrm>
            <a:off x="2050920" y="3860640"/>
            <a:ext cx="1441440" cy="360360"/>
          </a:xfrm>
          <a:custGeom>
            <a:avLst/>
            <a:gdLst>
              <a:gd name="textAreaLeft" fmla="*/ 0 w 1441440"/>
              <a:gd name="textAreaRight" fmla="*/ 1235520 w 144144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2124000" y="5661000"/>
            <a:ext cx="1441440" cy="360360"/>
          </a:xfrm>
          <a:custGeom>
            <a:avLst/>
            <a:gdLst>
              <a:gd name="textAreaLeft" fmla="*/ 0 w 1441440"/>
              <a:gd name="textAreaRight" fmla="*/ 1235520 w 144144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2050920" y="1773360"/>
            <a:ext cx="4392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9"/>
          <p:cNvSpPr/>
          <p:nvPr/>
        </p:nvSpPr>
        <p:spPr>
          <a:xfrm>
            <a:off x="2050920" y="3645000"/>
            <a:ext cx="4392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0"/>
          <p:cNvSpPr/>
          <p:nvPr/>
        </p:nvSpPr>
        <p:spPr>
          <a:xfrm>
            <a:off x="1979640" y="5516640"/>
            <a:ext cx="43927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2"/>
          <p:cNvSpPr/>
          <p:nvPr/>
        </p:nvSpPr>
        <p:spPr>
          <a:xfrm>
            <a:off x="5003640" y="2349360"/>
            <a:ext cx="1440000" cy="287640"/>
          </a:xfrm>
          <a:prstGeom prst="leftArrow">
            <a:avLst>
              <a:gd name="adj1" fmla="val 50000"/>
              <a:gd name="adj2" fmla="val 125156"/>
            </a:avLst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3"/>
          <p:cNvSpPr/>
          <p:nvPr/>
        </p:nvSpPr>
        <p:spPr>
          <a:xfrm>
            <a:off x="5076720" y="4221000"/>
            <a:ext cx="1440000" cy="287640"/>
          </a:xfrm>
          <a:prstGeom prst="leftArrow">
            <a:avLst>
              <a:gd name="adj1" fmla="val 50000"/>
              <a:gd name="adj2" fmla="val 125156"/>
            </a:avLst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4"/>
          <p:cNvSpPr/>
          <p:nvPr/>
        </p:nvSpPr>
        <p:spPr>
          <a:xfrm>
            <a:off x="5867280" y="6165720"/>
            <a:ext cx="863640" cy="287640"/>
          </a:xfrm>
          <a:prstGeom prst="leftArrow">
            <a:avLst>
              <a:gd name="adj1" fmla="val 50000"/>
              <a:gd name="adj2" fmla="val 75063"/>
            </a:avLst>
          </a:prstGeom>
          <a:solidFill>
            <a:srgbClr val="ff33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5"/>
          <p:cNvSpPr/>
          <p:nvPr/>
        </p:nvSpPr>
        <p:spPr>
          <a:xfrm>
            <a:off x="2050920" y="6453360"/>
            <a:ext cx="374508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6"/>
          <p:cNvSpPr/>
          <p:nvPr/>
        </p:nvSpPr>
        <p:spPr>
          <a:xfrm>
            <a:off x="2050920" y="4653000"/>
            <a:ext cx="237672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7"/>
          <p:cNvSpPr/>
          <p:nvPr/>
        </p:nvSpPr>
        <p:spPr>
          <a:xfrm>
            <a:off x="1979640" y="2781360"/>
            <a:ext cx="259236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0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8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0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новидности фортепиа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9152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анино                          Роя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755640" y="476280"/>
            <a:ext cx="7632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 rot="2113800">
            <a:off x="3132000" y="134136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f11f"/>
          </a:solidFill>
          <a:ln w="9360">
            <a:solidFill>
              <a:srgbClr val="36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2"/>
          <p:cNvSpPr/>
          <p:nvPr/>
        </p:nvSpPr>
        <p:spPr>
          <a:xfrm rot="19248000">
            <a:off x="5364000" y="1341360"/>
            <a:ext cx="239760" cy="490680"/>
          </a:xfrm>
          <a:prstGeom prst="downArrow">
            <a:avLst>
              <a:gd name="adj1" fmla="val 50000"/>
              <a:gd name="adj2" fmla="val 51164"/>
            </a:avLst>
          </a:prstGeom>
          <a:solidFill>
            <a:srgbClr val="1ff11f"/>
          </a:solidFill>
          <a:ln w="9360">
            <a:solidFill>
              <a:srgbClr val="36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Картинка 1 из 471405"/>
          <p:cNvPicPr/>
          <p:nvPr/>
        </p:nvPicPr>
        <p:blipFill>
          <a:blip r:embed="rId2"/>
          <a:stretch/>
        </p:blipFill>
        <p:spPr>
          <a:xfrm>
            <a:off x="5076720" y="2492280"/>
            <a:ext cx="3449880" cy="3441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8" descr="Картинка 33 из 56403"/>
          <p:cNvPicPr/>
          <p:nvPr/>
        </p:nvPicPr>
        <p:blipFill>
          <a:blip r:embed="rId3"/>
          <a:stretch/>
        </p:blipFill>
        <p:spPr>
          <a:xfrm>
            <a:off x="611280" y="2708280"/>
            <a:ext cx="3527280" cy="3060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9" descr="klavicord[1]"/>
          <p:cNvPicPr/>
          <p:nvPr/>
        </p:nvPicPr>
        <p:blipFill>
          <a:blip r:embed="rId4"/>
          <a:stretch/>
        </p:blipFill>
        <p:spPr>
          <a:xfrm>
            <a:off x="324000" y="171360"/>
            <a:ext cx="856908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5" dur="5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0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нтересны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771 году в Петербурге появились первые фортепиано у мастер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едора Богданович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прос на клавишные инструменты в Петербурге значительно увеличи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Картинка 31 из 56403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3348000" y="3860640"/>
            <a:ext cx="2664000" cy="1994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Картинка 1 из 77733"/>
          <p:cNvPicPr/>
          <p:nvPr/>
        </p:nvPicPr>
        <p:blipFill>
          <a:blip r:embed="rId3"/>
          <a:stretch/>
        </p:blipFill>
        <p:spPr>
          <a:xfrm>
            <a:off x="6300720" y="3716280"/>
            <a:ext cx="2384640" cy="2094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iano-1[1]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755640" y="357336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Arial"/>
              </a:rPr>
              <a:t>Кста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тепиано не должно издавать никаких: скрипов, стуков, щелчков.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В нём  должна быть только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узыка!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26441211126167_shutterstock_11701564[1]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324000" y="3860640"/>
            <a:ext cx="4465440" cy="2633760"/>
          </a:xfrm>
          <a:prstGeom prst="rect">
            <a:avLst/>
          </a:prstGeom>
          <a:ln w="0">
            <a:noFill/>
          </a:ln>
        </p:spPr>
      </p:pic>
      <p:sp>
        <p:nvSpPr>
          <p:cNvPr id="242" name="Line 7"/>
          <p:cNvSpPr/>
          <p:nvPr/>
        </p:nvSpPr>
        <p:spPr>
          <a:xfrm>
            <a:off x="3635280" y="1197000"/>
            <a:ext cx="1800360" cy="0"/>
          </a:xfrm>
          <a:prstGeom prst="line">
            <a:avLst/>
          </a:prstGeom>
          <a:ln w="572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5940360" y="4508640"/>
            <a:ext cx="2376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Картинка 6 из 13"/>
          <p:cNvPicPr/>
          <p:nvPr/>
        </p:nvPicPr>
        <p:blipFill>
          <a:blip r:embed="rId3">
            <a:lum contrast="48000"/>
          </a:blip>
          <a:stretch/>
        </p:blipFill>
        <p:spPr>
          <a:xfrm flipH="1">
            <a:off x="5940360" y="458136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0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6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151421[1]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4920" y="1125360"/>
            <a:ext cx="8280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95280" y="189000"/>
            <a:ext cx="8280360" cy="69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Сколько коллективных усилий соединила в себе современная фортепьянная механика! Ныне она отточена до мельчайших деталей. Почти неуловимые нюансы ударов по клавишам нынешний рояль в полной сохранности передает струн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Преобразились и струны - стали прочнее и наряднее. Теперь их стали делать не из латуни, а из специальной стали и очень тщательно вырабатывают. Их стало больше, натяжение их увеличилось, ибо, сильно натянутые, они звучат гораздо лучше. Расположение тоже изменилось: не одним рядом, как прежде, а двумя и даже тремя скрещивающимися. Это экономит место, сохраняя необходимую длину струн.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Некоторые мастера отваживались и на коренную переделку фортепьяно. Ставили его "на дыбы", соединяли пару инструментов в один, изобретали новые клавиатуры. Но столь серьезная ломка традиционного строения инструмента не увенчалась успехом. Исключение составляет лишь изобретенное в 1880 году и всюду понравившееся пианино. Для роялей же, даже весьма оригинальных - автоматических, электрифицированных, - по-прежнему основой служит испытанная временем система Кристофори.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И только через 150 лет после смерти замечательного изобретателя на его родине, в Падуе, был поставлен памятник этому выдающемуся человеку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1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изобретение изменило характер всей европейской музыки, которая является важной частью всей мировой куль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мотря на его молодость, фортепиано оказывает на общество в целом большее воздействие, чем какой-либо другой инструмент, и надо полагать, что его славе еще очень далеко до закат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 rot="1738800">
            <a:off x="6876720" y="259920"/>
            <a:ext cx="1224000" cy="1150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343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1851[1]"/>
          <p:cNvPicPr/>
          <p:nvPr/>
        </p:nvPicPr>
        <p:blipFill>
          <a:blip r:embed="rId2"/>
          <a:stretch/>
        </p:blipFill>
        <p:spPr>
          <a:xfrm>
            <a:off x="826920" y="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162450[1]"/>
          <p:cNvPicPr/>
          <p:nvPr/>
        </p:nvPicPr>
        <p:blipFill>
          <a:blip r:embed="rId3"/>
          <a:stretch/>
        </p:blipFill>
        <p:spPr>
          <a:xfrm>
            <a:off x="6948360" y="5157720"/>
            <a:ext cx="2016360" cy="1542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клавесин"/>
          <p:cNvPicPr/>
          <p:nvPr/>
        </p:nvPicPr>
        <p:blipFill>
          <a:blip r:embed="rId4"/>
          <a:stretch/>
        </p:blipFill>
        <p:spPr>
          <a:xfrm>
            <a:off x="3995640" y="260280"/>
            <a:ext cx="13683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0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99640" y="184428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С развитием музыкальной механики в синтезаторах и других современных инструментах используется все больше различных физических спецэффектов, и чем дальше будет совершенствоваться физика, тем дальше пойдет музыкальная на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4000" y="1341000"/>
            <a:ext cx="845964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восхищаемся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десными звуками, которые издают гитара, скрипка, баян, фортепиа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 с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кольк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си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наверное,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нужно потрати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чтобы превратить колебания воздуха в чудесный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зыкальный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звук!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сомненно,  м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астера, изготавливающие музыкальные инструменты, вкладывают душу и опыт, накопленный годами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в свои творения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К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а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они превращают обыкновенные воздушные волны в прекрасную музык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musikholl.ru/view_post.php?id=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allpianists.ru/history2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ru.wikipedia.org/wiki/%D0%A4%D0%BE%D1%80%D1%82%D0%B5%D0%BF%D0%B8%D0%B0%D0%BD%D0%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images.yandex.ru/yandsearch?p=4&amp;ed=1&amp;text=%D1%84%D0%BE%D1%82%D0%BE%20%D0%BA%D0%BB%D0%B0%D0%B2%D0%B8%D1%88&amp;stype=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cr3547976609457[1]"/>
          <p:cNvPicPr/>
          <p:nvPr/>
        </p:nvPicPr>
        <p:blipFill>
          <a:blip r:embed="rId2"/>
          <a:stretch/>
        </p:blipFill>
        <p:spPr>
          <a:xfrm>
            <a:off x="2195640" y="4149720"/>
            <a:ext cx="4464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img_8757150_440_9[1]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WordArt 10"/>
          <p:cNvSpPr txBox="1"/>
          <p:nvPr/>
        </p:nvSpPr>
        <p:spPr>
          <a:xfrm>
            <a:off x="539640" y="189000"/>
            <a:ext cx="7632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262" name="Фон_1.mi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3" dur="283805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montag2-new-smoll"/>
          <p:cNvPicPr/>
          <p:nvPr/>
        </p:nvPicPr>
        <p:blipFill>
          <a:blip r:embed="rId1"/>
          <a:stretch/>
        </p:blipFill>
        <p:spPr>
          <a:xfrm>
            <a:off x="0" y="0"/>
            <a:ext cx="3733920" cy="6620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ответить на этот вопрос, мы реш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знакомиться с историей изобретения замечательного музыкального инструмента – фортепиано, выяснить, как оно устроено и сколько в нём «физик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3708360" y="1484280"/>
            <a:ext cx="475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img_8757150_440_9[1] коп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00000" y="1484280"/>
            <a:ext cx="7704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Кто не играет вместе с фортепьяно, не играет и на нё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. Шум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26920" y="1484280"/>
            <a:ext cx="7704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«Кто не играет вместе с фортепьяно, не играет и на нём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cc"/>
                </a:solidFill>
                <a:latin typeface="Arial"/>
              </a:rPr>
              <a:t>Р. Шум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montag2-new-smoll"/>
          <p:cNvPicPr/>
          <p:nvPr/>
        </p:nvPicPr>
        <p:blipFill>
          <a:blip r:embed="rId2"/>
          <a:stretch/>
        </p:blipFill>
        <p:spPr>
          <a:xfrm>
            <a:off x="-757080" y="0"/>
            <a:ext cx="10550520" cy="7388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1.jpg"/>
          <p:cNvPicPr/>
          <p:nvPr/>
        </p:nvPicPr>
        <p:blipFill>
          <a:blip r:embed="rId3"/>
          <a:srcRect l="0" t="-9716" r="0" b="10723"/>
          <a:stretch/>
        </p:blipFill>
        <p:spPr>
          <a:xfrm>
            <a:off x="3564000" y="0"/>
            <a:ext cx="4895640" cy="4121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4221000"/>
            <a:ext cx="792000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Музыка прекрасными звуками украшает наш мир. Для одних это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рофессия, для других – удовольствие. Фортепьяно сейчас есть в каждом концертном зале. Пусть гитара сегодня популярнее, но фортепьяно уже три столетия остаётся главным инструментом для композиторов и испол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eader1"/>
          <p:cNvPicPr/>
          <p:nvPr/>
        </p:nvPicPr>
        <p:blipFill>
          <a:blip r:embed="rId4"/>
          <a:stretch/>
        </p:blipFill>
        <p:spPr>
          <a:xfrm>
            <a:off x="468360" y="1844640"/>
            <a:ext cx="30970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68360" y="1557360"/>
            <a:ext cx="8381880" cy="1676520"/>
          </a:xfrm>
          <a:prstGeom prst="rect">
            <a:avLst/>
          </a:prstGeom>
          <a:solidFill>
            <a:srgbClr val="000000"/>
          </a:solidFill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ff"/>
                </a:solidFill>
                <a:latin typeface="Arial"/>
              </a:rPr>
              <a:t>И з о б р е т е н и е </a:t>
            </a:r>
            <a:br>
              <a:rPr sz="5700"/>
            </a:br>
            <a:r>
              <a:rPr b="1" lang="ru-RU" sz="5700" spc="-1" strike="noStrike">
                <a:solidFill>
                  <a:srgbClr val="ffffff"/>
                </a:solidFill>
                <a:latin typeface="Arial"/>
              </a:rPr>
              <a:t>ф о р т е п и а н о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724360" y="3645000"/>
            <a:ext cx="2664000" cy="26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ект 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ононова Галина Константи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ТАВРАЦИОННЫЙ КОЛЛЕДЖ «КИР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1 11 2019 ГОД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02920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97180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411480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533412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64832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586728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647712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723600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556272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6156360" y="14130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6804000" y="14130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7451640" y="14130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358128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2362320" y="22860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1908000" y="1484280"/>
            <a:ext cx="0" cy="936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259092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320040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380988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1476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1258920" y="141300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>
            <a:off x="788508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8101080" y="148428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228600" y="685800"/>
            <a:ext cx="320040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2916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356400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06728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716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2"/>
          <p:cNvSpPr/>
          <p:nvPr/>
        </p:nvSpPr>
        <p:spPr>
          <a:xfrm>
            <a:off x="5364000" y="227664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3"/>
          <p:cNvSpPr/>
          <p:nvPr/>
        </p:nvSpPr>
        <p:spPr>
          <a:xfrm>
            <a:off x="5940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4"/>
          <p:cNvSpPr/>
          <p:nvPr/>
        </p:nvSpPr>
        <p:spPr>
          <a:xfrm>
            <a:off x="658800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5"/>
          <p:cNvSpPr/>
          <p:nvPr/>
        </p:nvSpPr>
        <p:spPr>
          <a:xfrm>
            <a:off x="2268360" y="2349360"/>
            <a:ext cx="0" cy="914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9" descr="k4-500[1]"/>
          <p:cNvPicPr/>
          <p:nvPr/>
        </p:nvPicPr>
        <p:blipFill>
          <a:blip r:embed="rId1"/>
          <a:stretch/>
        </p:blipFill>
        <p:spPr>
          <a:xfrm>
            <a:off x="539640" y="3645000"/>
            <a:ext cx="4762440" cy="254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0" descr="26441211126167_shutterstock_11701564[1]"/>
          <p:cNvPicPr/>
          <p:nvPr/>
        </p:nvPicPr>
        <p:blipFill>
          <a:blip r:embed="rId2"/>
          <a:stretch/>
        </p:blipFill>
        <p:spPr>
          <a:xfrm>
            <a:off x="3924360" y="404640"/>
            <a:ext cx="100800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Из истории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вишные инструменты существовали еще в Средние ве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806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80634"/>
                </a:solidFill>
                <a:latin typeface="Arial"/>
              </a:rPr>
              <a:t>Фортепи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собирательное название класса клавишно-струнных музыкальных инструментов— роялей и пианино. Название произошло от итал.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fort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«громко» и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piano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«тихо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noti[1]"/>
          <p:cNvPicPr/>
          <p:nvPr/>
        </p:nvPicPr>
        <p:blipFill>
          <a:blip r:embed="rId2"/>
          <a:stretch/>
        </p:blipFill>
        <p:spPr>
          <a:xfrm>
            <a:off x="6659640" y="260280"/>
            <a:ext cx="201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151421[1]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50021"/>
                </a:solidFill>
                <a:latin typeface="Arial"/>
              </a:rPr>
              <a:t>Изобретател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1709 году итальянец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ртоломео Кристофор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занимавшийся музыкальными инструментами семейства Медичи, изобрел первое фортепиа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ristofori1"/>
          <p:cNvPicPr/>
          <p:nvPr/>
        </p:nvPicPr>
        <p:blipFill>
          <a:blip r:embed="rId2"/>
          <a:stretch/>
        </p:blipFill>
        <p:spPr>
          <a:xfrm>
            <a:off x="3203640" y="3573360"/>
            <a:ext cx="22701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09:53:17Z</dcterms:created>
  <dc:creator>user</dc:creator>
  <dc:description/>
  <dc:language>en-US</dc:language>
  <cp:lastModifiedBy>mama</cp:lastModifiedBy>
  <dcterms:modified xsi:type="dcterms:W3CDTF">2019-12-15T18:34:40Z</dcterms:modified>
  <cp:revision>10</cp:revision>
  <dc:subject/>
  <dc:title>Слайд 1</dc:title>
</cp:coreProperties>
</file>