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0E5-CA9F-432F-B66C-CE7364C1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C15-035F-497D-A9C3-540E6A51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10B-7864-4CFA-81E8-A3981171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695-6282-4613-B3A5-91CF58B5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ECA4-3717-41EC-B46B-9A50F162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44F3-C8B4-4AD3-AF91-DF382B63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27CB-0FA3-477D-8604-B75BC1DD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61D9-6FFC-4E2B-8FE3-A82F7F86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E6C4-27C9-4442-88F3-F4DBDC5F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5A56-AD49-4647-BD43-AF2E18A7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2EF9-C00E-42F6-94E5-3547FE34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F68-AEB4-4101-B381-1344A35B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15E8-5BDE-4760-9205-FD1769F6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C6CE-A0A8-44D4-A1C3-B2835440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D7FF-47A2-421D-8B30-C277D381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24DE-99FB-4CA6-B045-6CE33B0E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994D-9BFB-440F-97C9-1CEC026F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EC7-91A3-4450-B83C-C1090941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EC6-DD9E-4D07-AD69-0086A2C9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E95-A6A2-49AC-92B5-82FB2F63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AD9-0B6C-41CA-8B65-B52F2521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5F0-F4BF-4E4B-9F5E-FB277D1C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C56-BA0A-4629-8B06-0E88FA95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E20-99A8-4195-B43B-7DDF69E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235E-707B-48E5-AE3D-96781BE1B6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B71B-1800-448E-B22B-F7F8A76940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how.com/&#1087;&#1086;&#1089;&#1090;&#1088;&#1086;&#1080;&#1090;&#1100;-&#1082;&#1088;&#1091;&#1075;&#1086;&#1074;&#1091;&#1102;-&#1076;&#1080;&#1072;&#1075;&#1088;&#1072;&#1084;&#1084;&#1091;" TargetMode="External"/><Relationship Id="rId2" Type="http://schemas.openxmlformats.org/officeDocument/2006/relationships/hyperlink" Target="http://ru.wikihow.com/&#1087;&#1086;&#1089;&#1090;&#1088;&#1086;&#1080;&#1090;&#1100;-&#1082;&#1088;&#1091;&#1075;&#1086;&#1074;&#1091;&#1102;-&#1076;&#1080;&#1072;&#1075;&#1088;&#1072;&#1084;&#1084;&#1091;" TargetMode="External"/><Relationship Id="rId3" Type="http://schemas.openxmlformats.org/officeDocument/2006/relationships/hyperlink" Target="http://studopedia.ru/1_51490_krugovie-diagrammi.html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116000" y="476280"/>
            <a:ext cx="6697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хнологичес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а проект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1042920" y="2637000"/>
            <a:ext cx="554364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РУГОВЫЕ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ИАГРАММЫ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WordArt 8"/>
          <p:cNvSpPr txBox="1"/>
          <p:nvPr/>
        </p:nvSpPr>
        <p:spPr>
          <a:xfrm>
            <a:off x="6227640" y="2781360"/>
            <a:ext cx="266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5 клас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3492360" y="5157720"/>
            <a:ext cx="51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4eb2"/>
                </a:solidFill>
                <a:latin typeface="Arial"/>
              </a:rPr>
              <a:t>Гуль Галина Ивановна, учитель математики МБОУ Лицей № 113 г. Новосиби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http://minetteriordan.com/wp-content/uploads/2014/04/16701423_s.jpg"/>
          <p:cNvPicPr/>
          <p:nvPr/>
        </p:nvPicPr>
        <p:blipFill>
          <a:blip r:embed="rId1"/>
          <a:stretch/>
        </p:blipFill>
        <p:spPr>
          <a:xfrm>
            <a:off x="826920" y="4797360"/>
            <a:ext cx="2160720" cy="188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Times New Roman"/>
              </a:rPr>
              <a:t>Используемые образовательные технологии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84360" y="1628640"/>
            <a:ext cx="48956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724e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4eb2"/>
                </a:solidFill>
                <a:latin typeface="Arial"/>
              </a:rPr>
              <a:t>Групповые технологии: сначала организуется работа в мини-группах, затем группы представляют свой алгоритм всему кла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24e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4eb2"/>
                </a:solidFill>
                <a:latin typeface="Arial"/>
              </a:rPr>
              <a:t>Технология организации проектно-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http://previews.123rf.com/images/artisticco/artisticco1105/artisticco110500014/9537090-A-student-standing-in-front-of-a-blackboard-Stock-Vector-cartoon-student-girl.jpg"/>
          <p:cNvPicPr/>
          <p:nvPr/>
        </p:nvPicPr>
        <p:blipFill>
          <a:blip r:embed="rId1"/>
          <a:stretch/>
        </p:blipFill>
        <p:spPr>
          <a:xfrm>
            <a:off x="6227640" y="4724280"/>
            <a:ext cx="2703600" cy="18003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5" descr="http://madou2raduga.ucoz.ru/raduzhnie_noti/05_fun_pictures.jpg"/>
          <p:cNvPicPr/>
          <p:nvPr/>
        </p:nvPicPr>
        <p:blipFill>
          <a:blip r:embed="rId2"/>
          <a:stretch/>
        </p:blipFill>
        <p:spPr>
          <a:xfrm>
            <a:off x="5508720" y="1844640"/>
            <a:ext cx="3130560" cy="19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1342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Times New Roman"/>
              </a:rPr>
              <a:t>Исследовательский компонент -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560" y="1700280"/>
            <a:ext cx="734076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Открытие учащимися способа построения круговой 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755640" y="2852640"/>
            <a:ext cx="8209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Практический  компонен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бъект 2"/>
          <p:cNvSpPr/>
          <p:nvPr/>
        </p:nvSpPr>
        <p:spPr>
          <a:xfrm>
            <a:off x="3276720" y="4005360"/>
            <a:ext cx="554328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Составление алгоритма построения диа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http://www.school88-vrn.ru/wp-content/uploads/2016/02/2027-61_1.jpg"/>
          <p:cNvPicPr/>
          <p:nvPr/>
        </p:nvPicPr>
        <p:blipFill>
          <a:blip r:embed="rId2"/>
          <a:stretch/>
        </p:blipFill>
        <p:spPr>
          <a:xfrm>
            <a:off x="611280" y="3860640"/>
            <a:ext cx="2619360" cy="2495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Times New Roman"/>
              </a:rPr>
              <a:t>Список </a:t>
            </a:r>
            <a:br>
              <a:rPr sz="4200"/>
            </a:br>
            <a:r>
              <a:rPr b="1" lang="ru-RU" sz="4200" spc="-1" strike="noStrike">
                <a:solidFill>
                  <a:srgbClr val="003399"/>
                </a:solidFill>
                <a:latin typeface="Times New Roman"/>
              </a:rPr>
              <a:t>рекомендованных источни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2398320"/>
            <a:ext cx="7772400" cy="37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строить круговую диаграмму – режим доступ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ru.wikihow.com/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построить-круговую-диагра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вые диаграммы – режим доступ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studopedia.ru/1_51490_krugovie-diagrammi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. Учебник для 5 кла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http://fb.ru/misc/i/gallery/10828/26603.jpg"/>
          <p:cNvPicPr/>
          <p:nvPr/>
        </p:nvPicPr>
        <p:blipFill>
          <a:blip r:embed="rId4"/>
          <a:stretch/>
        </p:blipFill>
        <p:spPr>
          <a:xfrm>
            <a:off x="5796000" y="4292640"/>
            <a:ext cx="3060720" cy="235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Times New Roman"/>
              </a:rPr>
              <a:t>Материально-технические ресурс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95280" y="1599840"/>
            <a:ext cx="46911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омпьютеры  (компьютерный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Мультимедийный про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Листы А4 для построения ди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Циркуль, линейка, карандаши, в т.ч. цветные, транспортир, ножницы, к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http://myrt.ru/uploads/posts/2010-11/1288732706_pk_03.jpg"/>
          <p:cNvPicPr/>
          <p:nvPr/>
        </p:nvPicPr>
        <p:blipFill>
          <a:blip r:embed="rId1"/>
          <a:stretch/>
        </p:blipFill>
        <p:spPr>
          <a:xfrm>
            <a:off x="684360" y="1268280"/>
            <a:ext cx="2923920" cy="2925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ttp://sscola1-rostov.narod.ru/doc/nedelMATEM/hongkong_hottour_kz.jpg"/>
          <p:cNvPicPr/>
          <p:nvPr/>
        </p:nvPicPr>
        <p:blipFill>
          <a:blip r:embed="rId2"/>
          <a:stretch/>
        </p:blipFill>
        <p:spPr>
          <a:xfrm>
            <a:off x="826920" y="4292640"/>
            <a:ext cx="3143520" cy="216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Times New Roman"/>
              </a:rPr>
              <a:t>Рекомендации по выполнению проек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аботая в па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Рассмотрите пример на проектной карте, разберитесь в представленном способе построения диа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роведите соц. 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роверьте открытый Вами способ на собственном примере, используя данные соц. о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редставьте алгоритм построения диаграммы в данном конкретном случае, обоснуйте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Найдите ваш тип диаграммы в компьютере, введите свои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равните способы построения диаграмм («вручную» и с использованием компьюте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ыявите их достоинства и недост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Презентуйте Вашу диаграмму клас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8208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24eb2"/>
                </a:solidFill>
                <a:latin typeface="Arial"/>
              </a:rPr>
              <a:t>Альманах (сборник, электронная книга, памятк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603360" y="40464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рмы представления результат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8" name="Picture 12" descr="http://thumbs.dreamstime.com/z/circular-diagram-21319079.jpg"/>
          <p:cNvPicPr/>
          <p:nvPr/>
        </p:nvPicPr>
        <p:blipFill>
          <a:blip r:embed="rId1"/>
          <a:srcRect l="0" t="0" r="0" b="11196"/>
          <a:stretch/>
        </p:blipFill>
        <p:spPr>
          <a:xfrm>
            <a:off x="1403280" y="2781360"/>
            <a:ext cx="6269040" cy="37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682560" y="165240"/>
            <a:ext cx="7772400" cy="1145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7928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24eb2"/>
                </a:solidFill>
                <a:latin typeface="Arial"/>
              </a:rPr>
              <a:t>«Построение круговых диаграм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24eb2"/>
                </a:solidFill>
                <a:latin typeface="Arial"/>
              </a:rPr>
              <a:t>Построение круговых диаграмм с использованием ИК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http://www.unit42.com/wp-content/uploads/piechart1.jpg"/>
          <p:cNvPicPr/>
          <p:nvPr/>
        </p:nvPicPr>
        <p:blipFill>
          <a:blip r:embed="rId2"/>
          <a:stretch/>
        </p:blipFill>
        <p:spPr>
          <a:xfrm>
            <a:off x="5219640" y="4554360"/>
            <a:ext cx="3317760" cy="23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1042920" y="476280"/>
            <a:ext cx="707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рмулировка проблем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4211640" y="1700280"/>
            <a:ext cx="47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24eb2"/>
                </a:solidFill>
                <a:latin typeface="Arial"/>
              </a:rPr>
              <a:t>Как представить результаты в наглядной фор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ttp://st2.depositphotos.com/3643473/6206/i/950/depositphotos_62067537-Man-pointing-on-pie-chart.jpg"/>
          <p:cNvPicPr/>
          <p:nvPr/>
        </p:nvPicPr>
        <p:blipFill>
          <a:blip r:embed="rId1"/>
          <a:stretch/>
        </p:blipFill>
        <p:spPr>
          <a:xfrm>
            <a:off x="179280" y="3357720"/>
            <a:ext cx="4032360" cy="311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1"/>
          <a:stretch/>
        </p:blipFill>
        <p:spPr>
          <a:xfrm>
            <a:off x="285840" y="63972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85840" y="1546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4eb2"/>
                </a:solidFill>
                <a:latin typeface="Arial"/>
              </a:rPr>
              <a:t>Выяснить, как собираются и группируются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4eb2"/>
                </a:solidFill>
                <a:latin typeface="Arial"/>
              </a:rPr>
              <a:t>Научиться строить круговые 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4eb2"/>
                </a:solidFill>
                <a:latin typeface="Arial"/>
              </a:rPr>
              <a:t>Сформировать умение извлекать информацию из круговых диаграм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://www.vectorfreak.com/images/preview/pie-chart-vector-1.jpg"/>
          <p:cNvPicPr/>
          <p:nvPr/>
        </p:nvPicPr>
        <p:blipFill>
          <a:blip r:embed="rId2"/>
          <a:stretch/>
        </p:blipFill>
        <p:spPr>
          <a:xfrm>
            <a:off x="6156360" y="4049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285840" y="573120"/>
            <a:ext cx="8686800" cy="834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85480" y="1428840"/>
            <a:ext cx="860724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4eb2"/>
                </a:solidFill>
                <a:latin typeface="Arial"/>
              </a:rPr>
              <a:t>Изучить теоретический материал по данной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4eb2"/>
                </a:solidFill>
                <a:latin typeface="Arial"/>
              </a:rPr>
              <a:t>Провести опрос общественного м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4eb2"/>
                </a:solidFill>
                <a:latin typeface="Arial"/>
              </a:rPr>
              <a:t>Обработать данную информ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4eb2"/>
                </a:solidFill>
                <a:latin typeface="Arial"/>
              </a:rPr>
              <a:t>Наглядно представить полученную информ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4eb2"/>
                </a:solidFill>
                <a:latin typeface="Arial"/>
              </a:rPr>
              <a:t>Систематизировать и объединить представленные группами диаграммы в книжку (электронный вари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1403280" y="4437000"/>
            <a:ext cx="56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http://www.cliparthut.com/clip-arts/1179/school-boy-clip-art-1179083.jpg"/>
          <p:cNvPicPr/>
          <p:nvPr/>
        </p:nvPicPr>
        <p:blipFill>
          <a:blip r:embed="rId2"/>
          <a:srcRect l="0" t="0" r="0" b="9909"/>
          <a:stretch/>
        </p:blipFill>
        <p:spPr>
          <a:xfrm>
            <a:off x="4643280" y="3990960"/>
            <a:ext cx="4210200" cy="2678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682560" y="262080"/>
            <a:ext cx="7772400" cy="1139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1547640" y="177336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724eb2"/>
                </a:solidFill>
                <a:latin typeface="Tahoma"/>
              </a:rPr>
              <a:t>Учащиеся 5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svitppt.com.ua/images/49/48079/960/img25.jpg"/>
          <p:cNvPicPr/>
          <p:nvPr/>
        </p:nvPicPr>
        <p:blipFill>
          <a:blip r:embed="rId2"/>
          <a:stretch/>
        </p:blipFill>
        <p:spPr>
          <a:xfrm>
            <a:off x="1979640" y="2421000"/>
            <a:ext cx="5364000" cy="402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724eb2"/>
                </a:solidFill>
                <a:latin typeface="Tahoma"/>
              </a:rPr>
              <a:t>Создание информационных моделей – диаграм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4eb2"/>
                </a:solidFill>
                <a:latin typeface="Tahoma"/>
              </a:rPr>
              <a:t>Алгоритм построения ди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1476360" y="333360"/>
            <a:ext cx="64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идаемые результа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продукт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Picture 5" descr="https://natashamrtn.files.wordpress.com/2012/03/496_31387851.jpg"/>
          <p:cNvPicPr/>
          <p:nvPr/>
        </p:nvPicPr>
        <p:blipFill>
          <a:blip r:embed="rId1"/>
          <a:stretch/>
        </p:blipFill>
        <p:spPr>
          <a:xfrm>
            <a:off x="5435640" y="387828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542880" y="334800"/>
            <a:ext cx="4967280" cy="835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50920" y="1988640"/>
            <a:ext cx="6121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24eb2"/>
                </a:solidFill>
                <a:latin typeface="Arial"/>
              </a:rPr>
              <a:t>Информационный, прикладн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24eb2"/>
                </a:solidFill>
                <a:latin typeface="Arial"/>
              </a:rPr>
              <a:t>(по доминантной деятельности участников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24eb2"/>
                </a:solidFill>
                <a:latin typeface="Arial"/>
              </a:rPr>
              <a:t>Минипроект (по продолжительности сдвоенный уро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24eb2"/>
                </a:solidFill>
                <a:latin typeface="Arial"/>
              </a:rPr>
              <a:t>Внутриклассный (по характеру контактов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24eb2"/>
                </a:solidFill>
                <a:latin typeface="Arial"/>
              </a:rPr>
              <a:t>Парный (по количеству участников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24eb2"/>
                </a:solidFill>
                <a:latin typeface="Arial"/>
              </a:rPr>
              <a:t>Монопроект – в рамках предмета математики (по комплексности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75"/>
              </a:spcBef>
              <a:buClr>
                <a:srgbClr val="b2b2b2"/>
              </a:buClr>
              <a:buSzPct val="9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http://shkolurok.ucoz.net/_nw/0/62430453.jpg"/>
          <p:cNvPicPr/>
          <p:nvPr/>
        </p:nvPicPr>
        <p:blipFill>
          <a:blip r:embed="rId2"/>
          <a:stretch/>
        </p:blipFill>
        <p:spPr>
          <a:xfrm>
            <a:off x="5435640" y="260280"/>
            <a:ext cx="345744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828720" y="10944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557360"/>
            <a:ext cx="8569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4eb2"/>
                </a:solidFill>
                <a:latin typeface="Tahoma"/>
              </a:rPr>
              <a:t>Наглядность, иллюстрация, интерпретация, аргу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4eb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http://pinkzap.com/wp-content/uploads/2007/07/pinkzap002.jpg"/>
          <p:cNvPicPr/>
          <p:nvPr/>
        </p:nvPicPr>
        <p:blipFill>
          <a:blip r:embed="rId2"/>
          <a:stretch/>
        </p:blipFill>
        <p:spPr>
          <a:xfrm>
            <a:off x="324000" y="3789360"/>
            <a:ext cx="2663640" cy="270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6:13:04Z</dcterms:created>
  <dc:creator>CoBRA</dc:creator>
  <dc:description/>
  <dc:language>en-US</dc:language>
  <cp:lastModifiedBy>My-Pc</cp:lastModifiedBy>
  <dcterms:modified xsi:type="dcterms:W3CDTF">2016-07-20T09:46:32Z</dcterms:modified>
  <cp:revision>60</cp:revision>
  <dc:subject/>
  <dc:title>Презентация PowerPoint</dc:title>
</cp:coreProperties>
</file>