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AF96D7-361B-462B-B363-7A27A915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B1F3D-B2F0-4E10-B6B4-9EDB7C1B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48927-5441-491E-B6CC-9F10DF27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20954-A5F3-40DA-B893-8DA9CA4C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6F9E9B-49F5-43DB-9383-EBF5FA26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D793CC-A474-456E-84E0-7F3E298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55752-C6D8-4589-995B-673EBF6D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12631-3C90-4ABA-86E2-7A66DAEB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A22D3-F8E4-4297-ACD4-2BAC695F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396C76-A76C-4170-8B54-A73FDC7E3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605D3-D5C8-4DF4-A855-39E87254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6E2634-F38B-4496-BF5F-1F848B09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5264B-EFF9-46E9-A4FC-1A13B01C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3DD1D-EAC7-4EFA-BD7E-F40743BC2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903E1-8800-4A7C-B6C1-54709F13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17AE4-50CD-4BDE-AB05-6367460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05E0D-541D-41A3-8B42-F77A5CAF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D6E7D9-5C3E-453F-8088-1B250E01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B2A38-95CB-439F-8B6C-D6B97DD9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5942F-ACB0-4001-A894-6711BD9FD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9D0189-4963-4F13-A72F-D8495EE4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3A63C-75E8-45CD-B8C8-0A949B2A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CBE485-0B15-4D12-BE2C-91FDE8A5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F6826D-2369-443C-8FB2-0A65C301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5E99A0-6646-4162-A5F8-9A4DB04D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3E522-59F2-4FC4-84BF-31D716A0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92B16-F720-4FB5-8813-B07C0649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57103-7571-486B-AF38-C16CCFD7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78243-FA94-41F7-84DE-8D0511FA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EAC5F-D437-4833-96B0-C7797D82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5D10-03E4-459B-9C6E-B5448EF0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76D597-2EF6-4B32-A21F-CDC1E029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E4CD6-2D2A-4832-BC27-4BE7EA74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0FA06-B0E3-4720-A6D3-8635D21A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0BBA20-60BA-4C65-AC18-64B15EB49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10884-C8AC-446E-8E5A-3448AFD4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CD8A8-571C-49E3-85C5-204A87F4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B84A7B-4086-4AF1-85FB-255B41B8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23B4D-71EA-4600-A41A-DB7BE84F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A4C8F-54C1-4C2F-A7F6-7952DB1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C3B83E-E266-49ED-AF34-7F40708F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79C0-0646-47DC-8F76-AFE1EB2B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0EA5D-E6F6-4452-BD1F-5EAE35FD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ACF71-1786-47BE-919D-CAF46FC5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72DFBC-6D12-43AC-BEF6-B1BECC54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C17918-1428-4473-9691-615021E4C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16C8F-BB34-4B71-9E4D-38ADF36A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78C30-919C-4C0F-8DAA-84FC967E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8E9FCD-85D9-4FEA-BEFA-0AE9A580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8F2746-3AA7-4765-B8B8-9AF21C38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0CB268-A045-48DC-A665-5C66FF13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5AA5B-A45D-4013-B973-3EB2D959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4218-E329-4E4E-A9D4-3152E84B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5D234-15E1-44C5-B17A-4A8F99CD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62DF9-DCE4-4777-9403-5CEA5094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6E624A-20F8-40F5-AC85-97863676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84AA8-B59A-4D01-8AC2-D592C2C0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499E8-6C56-408C-8957-01F330BA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839C7-2101-4BEB-8614-1486155E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C242CF-7160-49AC-AA19-C78D1890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EBD0-CD3A-4D46-9792-1777D985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E28-8A62-494D-B9B5-03810D6A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37A-DCB0-4F87-AA0C-1248874E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FBC-76F0-4448-9793-B04AD8C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44ED-0461-47C6-9999-F8CBC217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889B-F424-4B94-9DB1-3E6A213A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08D4-D6B2-41EE-8DE9-7CAFC096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7754-5796-4FC6-A0B0-FDDADE6EC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B4BB-3924-4929-8CAA-64602D50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4495-C26D-4715-8FE0-321ECC07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B128-FFD2-4850-858F-882B3177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EEA7-2E25-4E15-A42F-ED525EDC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CA2C-9A5A-4AA6-82DD-7C4D06A9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A1006-CAFB-41BD-B303-39ABD8A8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251D-974F-4210-908C-CD99D868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DA89-474B-4496-9C82-22479DCC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F112-2FB1-454F-9855-2AC81F5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96B7-62D0-41E3-BF04-3E99554A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C74A-3F5D-4885-8275-25AB188C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EC74-2993-43D0-84F6-DEC710A1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0034-AF71-439A-9CA8-E1D1F62A5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94D87-15F2-4876-BB44-E26AFEFF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B0E8F-1DFD-40AC-BBD7-E440F07A0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D293-D3EE-4B2E-A652-DB0FA66A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90699-7A4A-4D18-9081-3698E0F1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42798-4DD4-4B52-923E-CCAC60F1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B81A47-6C4D-425B-B3BF-C45CB1C18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DB1A4-1268-4231-BE22-6525587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ADCDB-94E9-415C-8767-62F8EC75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E489B-00E7-4F12-A0AE-A5B95727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6E4B0-7D13-44BC-86DF-BC86C27A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52324-D0BD-423A-805A-BCD077A8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00540-EBAA-4645-9D53-7759BEBE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B4A3-B7EA-4ECE-9D2F-E3687CA3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DD63F-19AA-43F8-9F8A-6ED0A894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B08B6-D398-4C95-948B-97DA3DD7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3819A-5C99-41F7-9856-19A17B17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8E57-EE91-433B-B42D-9BC2E459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2CDE8-979E-4DC1-B0EC-F93F03D1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E430F-DDF6-4643-A4D3-7ECA4C62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DA7E-EDC2-4866-B7FF-50158E55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EC650-FC03-4248-B38B-2B2CC850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3C679-6181-473C-9446-A73C20CA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FF27-74A4-4D33-9B14-EA9251773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A9A35-BEB7-4DFB-851A-4EE1CFC0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BBF12-D326-4243-866A-39E8464F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5246A-0EB8-4E0D-B092-EECA775E7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4DB0D-778F-4A7B-A8A7-C5EE9A4A4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68B4-7DAA-4CE7-8C23-B5EE3A0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48531-26B9-48D3-BDF3-B167A42D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1A033-E0F3-45D1-8D87-BD02FBDF7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33092-BFE0-4A1E-9043-DF19CBC4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BE8246-6A62-43B1-B9BA-473C2627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7D9D4C-6978-4C4A-9A24-A785D7E0A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D721F-2359-46F0-84DD-1F877102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293BC-B143-4906-BB54-15E9963C4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A8495-6574-452C-91FD-72598E0FF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C69F-C03A-430F-943F-85AAD76F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7AFC0-BE57-494C-8CE4-976448BE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A97EC0-4A9A-4D37-84A9-7404192B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114D-F50F-4933-BFB9-66F7BE16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33A5B-504D-4B60-9CE9-B40E1D66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B11A3-F34B-472C-BD7D-E806D3FB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3B47D-44F3-43F3-B07D-864A605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2E34-CE31-4483-872A-75093D54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63AFF-4F56-4072-8263-0EACED9DD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0E3E8-516F-4486-AB8C-0F56D1F9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F6C03-C898-40F5-9C0E-BD91ED73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3CF97-13FB-4819-BD0D-19BB24164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F3583-59CD-4163-8F1A-E7CF9C266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5B29A-3CF0-46CE-BD41-010E71F0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D43D2-76BA-405C-93C6-B40E70F0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7D14C-44CE-4FD0-80FC-A0B88A8B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636AB-94F9-4872-ABB8-21D321CA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6930C-3380-4903-8400-610E6F67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8F9F0-E59C-4147-BD93-1E047592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3C959-AC6F-485C-8647-DAAA7A5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3EDB7-E943-49BD-8E5E-5E4A77CC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DD5EA-FB98-46C9-A9F2-02AFAD9A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F6FCDF-984F-49C2-800F-24388917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64937-B242-4CEA-B397-DACE0472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0B87AC-7478-416B-B3B8-87AF3FD1A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223BE-DDE2-4A3A-B1D9-B1ABF6C4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28219-F890-4B52-885E-D296F4A8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BC83-B8EC-4BFF-9868-AA3728AE4BD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A684-4B88-4B0B-82CE-C5625035892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C7F9-12AC-4E09-A7B9-09E8962B16E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07E-410B-4712-A024-AC080EA9502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6049-730F-4D2F-8E82-6FCF753C200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032C-DC31-4378-88E6-B0A223B1DE6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41AA-EBEC-45C4-831A-9D9951FC9A3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8D11-4F7C-4D20-BC78-744740E5E7F9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3B8CB-E622-46F1-B883-131C653C164A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5AF4-CEE2-4B4E-8219-5A7697A762CE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1079-C40F-498D-BEF1-890BC51D5A7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Рисунок 7" descr="0_d3a88_7f4a30dc_orig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10"/>
          <p:cNvSpPr/>
          <p:nvPr/>
        </p:nvSpPr>
        <p:spPr>
          <a:xfrm>
            <a:off x="285840" y="285840"/>
            <a:ext cx="8572320" cy="635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оугольник 9"/>
          <p:cNvSpPr/>
          <p:nvPr/>
        </p:nvSpPr>
        <p:spPr>
          <a:xfrm>
            <a:off x="282600" y="6429240"/>
            <a:ext cx="12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http://linda6035.ucoz.ru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http://img-fotki.yandex.ru/get/9320/16969765.22c/0_8f6e7_6c5fd1e5_M.png"/>
          <p:cNvPicPr/>
          <p:nvPr/>
        </p:nvPicPr>
        <p:blipFill>
          <a:blip r:embed="rId3"/>
          <a:stretch/>
        </p:blipFill>
        <p:spPr>
          <a:xfrm>
            <a:off x="5992920" y="4078440"/>
            <a:ext cx="2869920" cy="2786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5C7F-605E-450F-9CAA-58DF9B1F341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1"/>
          <p:cNvSpPr/>
          <p:nvPr/>
        </p:nvSpPr>
        <p:spPr>
          <a:xfrm>
            <a:off x="539640" y="69228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c00000"/>
                </a:solidFill>
                <a:uFillTx/>
                <a:latin typeface="Georgia"/>
              </a:rPr>
              <a:t>СЕМЬЯ</a:t>
            </a:r>
            <a:r>
              <a:rPr b="1" i="1" lang="ru-RU" sz="5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– это …………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Прямоугольник 2" descr=""/>
          <p:cNvPicPr/>
          <p:nvPr/>
        </p:nvPicPr>
        <p:blipFill>
          <a:blip r:embed="rId1"/>
          <a:stretch/>
        </p:blipFill>
        <p:spPr>
          <a:xfrm>
            <a:off x="2919240" y="1962000"/>
            <a:ext cx="3195720" cy="27068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6" descr="http://img-fotki.yandex.ru/get/9255/981986.4c/0_884cc_2857d78f_orig"/>
          <p:cNvPicPr/>
          <p:nvPr/>
        </p:nvPicPr>
        <p:blipFill>
          <a:blip r:embed="rId2"/>
          <a:stretch/>
        </p:blipFill>
        <p:spPr>
          <a:xfrm>
            <a:off x="2725560" y="4365720"/>
            <a:ext cx="4206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1"/>
          <p:cNvSpPr/>
          <p:nvPr/>
        </p:nvSpPr>
        <p:spPr>
          <a:xfrm>
            <a:off x="426960" y="333360"/>
            <a:ext cx="835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4 груп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 должны, используя учебник страницу 27-28 , назвать виды помощи, какую государство оказывает семь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Группа 22"/>
          <p:cNvGrpSpPr/>
          <p:nvPr/>
        </p:nvGrpSpPr>
        <p:grpSpPr>
          <a:xfrm>
            <a:off x="519840" y="3331440"/>
            <a:ext cx="7989120" cy="2471400"/>
            <a:chOff x="519840" y="3331440"/>
            <a:chExt cx="7989120" cy="2471400"/>
          </a:xfrm>
        </p:grpSpPr>
        <p:grpSp>
          <p:nvGrpSpPr>
            <p:cNvPr id="588" name="Группа 9"/>
            <p:cNvGrpSpPr/>
            <p:nvPr/>
          </p:nvGrpSpPr>
          <p:grpSpPr>
            <a:xfrm>
              <a:off x="2109240" y="4172040"/>
              <a:ext cx="1960560" cy="1630800"/>
              <a:chOff x="2109240" y="4172040"/>
              <a:chExt cx="1960560" cy="1630800"/>
            </a:xfrm>
          </p:grpSpPr>
          <p:sp>
            <p:nvSpPr>
              <p:cNvPr id="589" name="Стрелка вправо 10"/>
              <p:cNvSpPr/>
              <p:nvPr/>
            </p:nvSpPr>
            <p:spPr>
              <a:xfrm rot="19870800">
                <a:off x="3440520" y="4371120"/>
                <a:ext cx="577800" cy="360360"/>
              </a:xfrm>
              <a:prstGeom prst="rightArrow">
                <a:avLst>
                  <a:gd name="adj1" fmla="val 50000"/>
                  <a:gd name="adj2" fmla="val 49646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Кольцо 11"/>
              <p:cNvSpPr/>
              <p:nvPr/>
            </p:nvSpPr>
            <p:spPr>
              <a:xfrm rot="19870800">
                <a:off x="2319480" y="4393440"/>
                <a:ext cx="1224000" cy="1188000"/>
              </a:xfrm>
              <a:custGeom>
                <a:avLst/>
                <a:gdLst>
                  <a:gd name="textAreaLeft" fmla="*/ 179280 w 1224000"/>
                  <a:gd name="textAreaRight" fmla="*/ 1044720 w 1224000"/>
                  <a:gd name="textAreaTop" fmla="*/ 173880 h 1188000"/>
                  <a:gd name="textAreaBottom" fmla="*/ 1014120 h 1188000"/>
                </a:gdLst>
                <a:ahLst/>
                <a:rect l="textAreaLeft" t="textAreaTop" r="textAreaRight" b="textAreaBottom"/>
                <a:pathLst>
                  <a:path w="1227184" h="1182960">
                    <a:moveTo>
                      <a:pt x="0" y="591480"/>
                    </a:moveTo>
                    <a:lnTo>
                      <a:pt x="0" y="591480"/>
                    </a:lnTo>
                    <a:arcTo wR="613592" hR="591480" stAng="-10799994" swAng="5400000"/>
                    <a:lnTo>
                      <a:pt x="613593" y="1"/>
                    </a:lnTo>
                    <a:arcTo wR="613592" hR="591480" stAng="-5399994" swAng="5400000"/>
                    <a:lnTo>
                      <a:pt x="1227184" y="591482"/>
                    </a:lnTo>
                    <a:arcTo wR="613592" hR="591480" stAng="0" swAng="5400000"/>
                    <a:lnTo>
                      <a:pt x="613592" y="1182962"/>
                    </a:lnTo>
                    <a:arcTo wR="613592" hR="591480" stAng="5400000" swAng="5400006"/>
                    <a:close/>
                    <a:moveTo>
                      <a:pt x="295740" y="591480"/>
                    </a:moveTo>
                    <a:lnTo>
                      <a:pt x="295740" y="591480"/>
                    </a:lnTo>
                    <a:arcTo wR="317852" hR="295740" stAng="10800000" swAng="-5400000"/>
                    <a:lnTo>
                      <a:pt x="613592" y="887220"/>
                    </a:lnTo>
                    <a:arcTo wR="317852" hR="295740" stAng="5400000" swAng="-5400000"/>
                    <a:lnTo>
                      <a:pt x="931444" y="591480"/>
                    </a:lnTo>
                    <a:arcTo wR="317852" hR="295740" stAng="0" swAng="-5400000"/>
                    <a:lnTo>
                      <a:pt x="613592" y="295740"/>
                    </a:lnTo>
                    <a:arcTo wR="317852" hR="295740" stAng="-5400000" swAng="-5400000"/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1" name="Группа 6"/>
            <p:cNvGrpSpPr/>
            <p:nvPr/>
          </p:nvGrpSpPr>
          <p:grpSpPr>
            <a:xfrm>
              <a:off x="519840" y="3331440"/>
              <a:ext cx="1946880" cy="1653840"/>
              <a:chOff x="519840" y="3331440"/>
              <a:chExt cx="1946880" cy="1653840"/>
            </a:xfrm>
          </p:grpSpPr>
          <p:sp>
            <p:nvSpPr>
              <p:cNvPr id="592" name="Стрелка вправо 4"/>
              <p:cNvSpPr/>
              <p:nvPr/>
            </p:nvSpPr>
            <p:spPr>
              <a:xfrm rot="1906800">
                <a:off x="1838520" y="4457880"/>
                <a:ext cx="577080" cy="357840"/>
              </a:xfrm>
              <a:prstGeom prst="rightArrow">
                <a:avLst>
                  <a:gd name="adj1" fmla="val 50000"/>
                  <a:gd name="adj2" fmla="val 49993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Кольцо 5"/>
              <p:cNvSpPr/>
              <p:nvPr/>
            </p:nvSpPr>
            <p:spPr>
              <a:xfrm rot="1906800">
                <a:off x="740880" y="3564360"/>
                <a:ext cx="1222920" cy="1188000"/>
              </a:xfrm>
              <a:custGeom>
                <a:avLst/>
                <a:gdLst>
                  <a:gd name="textAreaLeft" fmla="*/ 178920 w 1222920"/>
                  <a:gd name="textAreaRight" fmla="*/ 1044000 w 1222920"/>
                  <a:gd name="textAreaTop" fmla="*/ 173880 h 1188000"/>
                  <a:gd name="textAreaBottom" fmla="*/ 1014120 h 1188000"/>
                </a:gdLst>
                <a:ahLst/>
                <a:rect l="textAreaLeft" t="textAreaTop" r="textAreaRight" b="textAreaBottom"/>
                <a:pathLst>
                  <a:path w="1220835" h="1186136">
                    <a:moveTo>
                      <a:pt x="0" y="593068"/>
                    </a:moveTo>
                    <a:lnTo>
                      <a:pt x="0" y="593068"/>
                    </a:lnTo>
                    <a:arcTo wR="610418" hR="593068" stAng="-10799994" swAng="5400000"/>
                    <a:lnTo>
                      <a:pt x="610419" y="1"/>
                    </a:lnTo>
                    <a:arcTo wR="610418" hR="593068" stAng="-5399994" swAng="5400000"/>
                    <a:lnTo>
                      <a:pt x="1220836" y="593070"/>
                    </a:lnTo>
                    <a:arcTo wR="610418" hR="593068" stAng="0" swAng="5400000"/>
                    <a:lnTo>
                      <a:pt x="610418" y="1186138"/>
                    </a:lnTo>
                    <a:arcTo wR="610418" hR="593068" stAng="5400000" swAng="5400006"/>
                    <a:close/>
                    <a:moveTo>
                      <a:pt x="296534" y="593068"/>
                    </a:moveTo>
                    <a:lnTo>
                      <a:pt x="296534" y="593068"/>
                    </a:lnTo>
                    <a:arcTo wR="313884" hR="296534" stAng="10800000" swAng="-5400000"/>
                    <a:lnTo>
                      <a:pt x="610418" y="889602"/>
                    </a:lnTo>
                    <a:arcTo wR="313884" hR="296534" stAng="5400000" swAng="-5400000"/>
                    <a:lnTo>
                      <a:pt x="924302" y="593068"/>
                    </a:lnTo>
                    <a:arcTo wR="313884" hR="296534" stAng="0" swAng="-5400000"/>
                    <a:lnTo>
                      <a:pt x="610418" y="296534"/>
                    </a:lnTo>
                    <a:arcTo wR="313884" hR="296534" stAng="-5400000" swAng="-5400000"/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4" name="Группа 12"/>
            <p:cNvGrpSpPr/>
            <p:nvPr/>
          </p:nvGrpSpPr>
          <p:grpSpPr>
            <a:xfrm>
              <a:off x="5452200" y="3830760"/>
              <a:ext cx="1946160" cy="1655640"/>
              <a:chOff x="5452200" y="3830760"/>
              <a:chExt cx="1946160" cy="1655640"/>
            </a:xfrm>
          </p:grpSpPr>
          <p:sp>
            <p:nvSpPr>
              <p:cNvPr id="595" name="Стрелка вправо 13"/>
              <p:cNvSpPr/>
              <p:nvPr/>
            </p:nvSpPr>
            <p:spPr>
              <a:xfrm rot="19690200">
                <a:off x="6768720" y="3996000"/>
                <a:ext cx="577080" cy="363240"/>
              </a:xfrm>
              <a:prstGeom prst="rightArrow">
                <a:avLst>
                  <a:gd name="adj1" fmla="val 50000"/>
                  <a:gd name="adj2" fmla="val 50279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Кольцо 14"/>
              <p:cNvSpPr/>
              <p:nvPr/>
            </p:nvSpPr>
            <p:spPr>
              <a:xfrm rot="19690200">
                <a:off x="5673240" y="4064400"/>
                <a:ext cx="1225440" cy="1188000"/>
              </a:xfrm>
              <a:custGeom>
                <a:avLst/>
                <a:gdLst>
                  <a:gd name="textAreaLeft" fmla="*/ 179280 w 1225440"/>
                  <a:gd name="textAreaRight" fmla="*/ 1046160 w 1225440"/>
                  <a:gd name="textAreaTop" fmla="*/ 173880 h 1188000"/>
                  <a:gd name="textAreaBottom" fmla="*/ 1014120 h 1188000"/>
                </a:gdLst>
                <a:ahLst/>
                <a:rect l="textAreaLeft" t="textAreaTop" r="textAreaRight" b="textAreaBottom"/>
                <a:pathLst>
                  <a:path w="1230360" h="1198837">
                    <a:moveTo>
                      <a:pt x="0" y="599419"/>
                    </a:moveTo>
                    <a:lnTo>
                      <a:pt x="0" y="599419"/>
                    </a:lnTo>
                    <a:arcTo wR="615180" hR="599419" stAng="-10799994" swAng="5400000"/>
                    <a:lnTo>
                      <a:pt x="615181" y="1"/>
                    </a:lnTo>
                    <a:arcTo wR="615180" hR="599419" stAng="-5399994" swAng="5400000"/>
                    <a:lnTo>
                      <a:pt x="1230360" y="599421"/>
                    </a:lnTo>
                    <a:arcTo wR="615180" hR="599419" stAng="0" swAng="5400000"/>
                    <a:lnTo>
                      <a:pt x="615180" y="1198840"/>
                    </a:lnTo>
                    <a:arcTo wR="615180" hR="599419" stAng="5400000" swAng="5400006"/>
                    <a:close/>
                    <a:moveTo>
                      <a:pt x="299709" y="599419"/>
                    </a:moveTo>
                    <a:lnTo>
                      <a:pt x="299709" y="599419"/>
                    </a:lnTo>
                    <a:arcTo wR="315471" hR="299709" stAng="10800000" swAng="-5400000"/>
                    <a:lnTo>
                      <a:pt x="615180" y="899128"/>
                    </a:lnTo>
                    <a:arcTo wR="315471" hR="299709" stAng="5400000" swAng="-5400000"/>
                    <a:lnTo>
                      <a:pt x="930651" y="599419"/>
                    </a:lnTo>
                    <a:arcTo wR="315471" hR="299709" stAng="0" swAng="-5400000"/>
                    <a:lnTo>
                      <a:pt x="615180" y="299710"/>
                    </a:lnTo>
                    <a:arcTo wR="315471" hR="299709" stAng="-5400000" swAng="-5400000"/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7" name="Группа 15"/>
            <p:cNvGrpSpPr/>
            <p:nvPr/>
          </p:nvGrpSpPr>
          <p:grpSpPr>
            <a:xfrm>
              <a:off x="3819600" y="3628440"/>
              <a:ext cx="1969560" cy="1576800"/>
              <a:chOff x="3819600" y="3628440"/>
              <a:chExt cx="1969560" cy="1576800"/>
            </a:xfrm>
          </p:grpSpPr>
          <p:sp>
            <p:nvSpPr>
              <p:cNvPr id="598" name="Стрелка вправо 16"/>
              <p:cNvSpPr/>
              <p:nvPr/>
            </p:nvSpPr>
            <p:spPr>
              <a:xfrm rot="1423800">
                <a:off x="5168520" y="4603680"/>
                <a:ext cx="572040" cy="360000"/>
              </a:xfrm>
              <a:prstGeom prst="rightArrow">
                <a:avLst>
                  <a:gd name="adj1" fmla="val 50000"/>
                  <a:gd name="adj2" fmla="val 49472"/>
                </a:avLst>
              </a:prstGeom>
              <a:solidFill>
                <a:srgbClr val="ffff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Кольцо 17"/>
              <p:cNvSpPr/>
              <p:nvPr/>
            </p:nvSpPr>
            <p:spPr>
              <a:xfrm rot="1423800">
                <a:off x="4007160" y="3822480"/>
                <a:ext cx="1215360" cy="1188000"/>
              </a:xfrm>
              <a:custGeom>
                <a:avLst/>
                <a:gdLst>
                  <a:gd name="textAreaLeft" fmla="*/ 177840 w 1215360"/>
                  <a:gd name="textAreaRight" fmla="*/ 1037520 w 1215360"/>
                  <a:gd name="textAreaTop" fmla="*/ 173880 h 1188000"/>
                  <a:gd name="textAreaBottom" fmla="*/ 1014120 h 1188000"/>
                </a:gdLst>
                <a:ahLst/>
                <a:rect l="textAreaLeft" t="textAreaTop" r="textAreaRight" b="textAreaBottom"/>
                <a:pathLst>
                  <a:path w="1224010" h="1184547">
                    <a:moveTo>
                      <a:pt x="0" y="592274"/>
                    </a:moveTo>
                    <a:lnTo>
                      <a:pt x="0" y="592274"/>
                    </a:lnTo>
                    <a:arcTo wR="612005" hR="592274" stAng="-10799994" swAng="5400000"/>
                    <a:lnTo>
                      <a:pt x="612006" y="1"/>
                    </a:lnTo>
                    <a:arcTo wR="612005" hR="592274" stAng="-5399994" swAng="5400000"/>
                    <a:lnTo>
                      <a:pt x="1224010" y="592276"/>
                    </a:lnTo>
                    <a:arcTo wR="612005" hR="592274" stAng="0" swAng="5400000"/>
                    <a:lnTo>
                      <a:pt x="612005" y="1184550"/>
                    </a:lnTo>
                    <a:arcTo wR="612005" hR="592274" stAng="5400000" swAng="5400006"/>
                    <a:close/>
                    <a:moveTo>
                      <a:pt x="296137" y="592274"/>
                    </a:moveTo>
                    <a:lnTo>
                      <a:pt x="296137" y="592274"/>
                    </a:lnTo>
                    <a:arcTo wR="315868" hR="296137" stAng="10800000" swAng="-5400000"/>
                    <a:lnTo>
                      <a:pt x="612005" y="888411"/>
                    </a:lnTo>
                    <a:arcTo wR="315868" hR="296137" stAng="5400000" swAng="-5400000"/>
                    <a:lnTo>
                      <a:pt x="927873" y="592274"/>
                    </a:lnTo>
                    <a:arcTo wR="315868" hR="296137" stAng="0" swAng="-5400000"/>
                    <a:lnTo>
                      <a:pt x="612005" y="296137"/>
                    </a:lnTo>
                    <a:arcTo wR="315868" hR="296137" stAng="-5400000" swAng="-5400000"/>
                    <a:close/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Кольцо 20"/>
            <p:cNvSpPr/>
            <p:nvPr/>
          </p:nvSpPr>
          <p:spPr>
            <a:xfrm>
              <a:off x="7284960" y="3500280"/>
              <a:ext cx="1224000" cy="1187640"/>
            </a:xfrm>
            <a:custGeom>
              <a:avLst/>
              <a:gdLst>
                <a:gd name="textAreaLeft" fmla="*/ 179280 w 1224000"/>
                <a:gd name="textAreaRight" fmla="*/ 1044720 w 1224000"/>
                <a:gd name="textAreaTop" fmla="*/ 173880 h 1187640"/>
                <a:gd name="textAreaBottom" fmla="*/ 1013760 h 1187640"/>
              </a:gdLst>
              <a:ahLst/>
              <a:rect l="textAreaLeft" t="textAreaTop" r="textAreaRight" b="textAreaBottom"/>
              <a:pathLst>
                <a:path w="1224009" h="1187723">
                  <a:moveTo>
                    <a:pt x="0" y="593862"/>
                  </a:moveTo>
                  <a:lnTo>
                    <a:pt x="0" y="593862"/>
                  </a:lnTo>
                  <a:arcTo wR="612005" hR="593862" stAng="-10799994" swAng="5400000"/>
                  <a:lnTo>
                    <a:pt x="612006" y="1"/>
                  </a:lnTo>
                  <a:arcTo wR="612005" hR="593862" stAng="-5399994" swAng="5400000"/>
                  <a:lnTo>
                    <a:pt x="1224010" y="593864"/>
                  </a:lnTo>
                  <a:arcTo wR="612005" hR="593862" stAng="0" swAng="5400000"/>
                  <a:lnTo>
                    <a:pt x="612005" y="1187726"/>
                  </a:lnTo>
                  <a:arcTo wR="612005" hR="593862" stAng="5400000" swAng="5400006"/>
                  <a:close/>
                  <a:moveTo>
                    <a:pt x="296931" y="593862"/>
                  </a:moveTo>
                  <a:lnTo>
                    <a:pt x="296931" y="593862"/>
                  </a:lnTo>
                  <a:arcTo wR="315074" hR="296931" stAng="10800000" swAng="-5400000"/>
                  <a:lnTo>
                    <a:pt x="612005" y="890793"/>
                  </a:lnTo>
                  <a:arcTo wR="315074" hR="296931" stAng="5400000" swAng="-5400000"/>
                  <a:lnTo>
                    <a:pt x="927079" y="593862"/>
                  </a:lnTo>
                  <a:arcTo wR="315074" hR="296931" stAng="0" swAng="-5400000"/>
                  <a:lnTo>
                    <a:pt x="612005" y="296931"/>
                  </a:lnTo>
                  <a:arcTo wR="315074" hR="296931" stAng="-5400000" swAng="-5400000"/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Схема 2" descr=""/>
          <p:cNvPicPr/>
          <p:nvPr/>
        </p:nvPicPr>
        <p:blipFill>
          <a:blip r:embed="rId1"/>
          <a:stretch/>
        </p:blipFill>
        <p:spPr>
          <a:xfrm>
            <a:off x="450720" y="804960"/>
            <a:ext cx="8332920" cy="5340240"/>
          </a:xfrm>
          <a:prstGeom prst="rect">
            <a:avLst/>
          </a:prstGeom>
          <a:ln w="0">
            <a:noFill/>
          </a:ln>
        </p:spPr>
      </p:pic>
      <p:pic>
        <p:nvPicPr>
          <p:cNvPr id="602" name="Рисунок 3" descr="https://s44.radikal.ru/i104/1008/63/be6ac2412a0b.png"/>
          <p:cNvPicPr/>
          <p:nvPr/>
        </p:nvPicPr>
        <p:blipFill>
          <a:blip r:embed="rId2"/>
          <a:stretch/>
        </p:blipFill>
        <p:spPr>
          <a:xfrm>
            <a:off x="6227640" y="4797360"/>
            <a:ext cx="2305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Прямоугольник 1"/>
          <p:cNvSpPr/>
          <p:nvPr/>
        </p:nvSpPr>
        <p:spPr>
          <a:xfrm>
            <a:off x="426960" y="333360"/>
            <a:ext cx="835200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5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 вас на столах лежат тексты из Конвенции о правах ребенка. Выполните задания к не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10" descr="http://s44.radikal.ru/i104/1008/63/be6ac2412a0b.png"/>
          <p:cNvPicPr/>
          <p:nvPr/>
        </p:nvPicPr>
        <p:blipFill>
          <a:blip r:embed="rId1"/>
          <a:stretch/>
        </p:blipFill>
        <p:spPr>
          <a:xfrm>
            <a:off x="4356000" y="2475000"/>
            <a:ext cx="4032360" cy="284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Прямоугольник 1"/>
          <p:cNvSpPr/>
          <p:nvPr/>
        </p:nvSpPr>
        <p:spPr>
          <a:xfrm>
            <a:off x="426960" y="333360"/>
            <a:ext cx="8352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5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10" descr="http://s44.radikal.ru/i104/1008/63/be6ac2412a0b.png"/>
          <p:cNvPicPr/>
          <p:nvPr/>
        </p:nvPicPr>
        <p:blipFill>
          <a:blip r:embed="rId1"/>
          <a:stretch/>
        </p:blipFill>
        <p:spPr>
          <a:xfrm>
            <a:off x="6324480" y="5157720"/>
            <a:ext cx="2443320" cy="172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7" name="Прямоугольник 1"/>
          <p:cNvSpPr/>
          <p:nvPr/>
        </p:nvSpPr>
        <p:spPr>
          <a:xfrm>
            <a:off x="684360" y="1371600"/>
            <a:ext cx="588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Конвенция ООН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ава́х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ебёнка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— международный правовой документ, определяющий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ава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детей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в государствах участниках.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Конвенция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авах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ебёнка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является первым и основным международно-правовым документом обязательного характера, посвящённым широкому спектру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прав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ребёнка</a:t>
            </a:r>
            <a:r>
              <a:rPr b="0" lang="ru-RU" sz="24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Прямоугольник 1"/>
          <p:cNvSpPr/>
          <p:nvPr/>
        </p:nvSpPr>
        <p:spPr>
          <a:xfrm>
            <a:off x="426960" y="333360"/>
            <a:ext cx="8352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адание 6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0" descr="http://s44.radikal.ru/i104/1008/63/be6ac2412a0b.png"/>
          <p:cNvPicPr/>
          <p:nvPr/>
        </p:nvPicPr>
        <p:blipFill>
          <a:blip r:embed="rId1"/>
          <a:stretch/>
        </p:blipFill>
        <p:spPr>
          <a:xfrm>
            <a:off x="6324480" y="5157720"/>
            <a:ext cx="2443320" cy="1720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0" name="Прямоугольник 1"/>
          <p:cNvSpPr/>
          <p:nvPr/>
        </p:nvSpPr>
        <p:spPr>
          <a:xfrm>
            <a:off x="684360" y="1371600"/>
            <a:ext cx="6048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итайте 2 пункт 3 параграфа на странице 28. Ответьте на вопрос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ие права имеет ребенок в Российской Федер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бывает, если семья не выполняет своих обязанностей по отношению к ребенк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5688000" cy="719280"/>
          </a:xfrm>
          <a:prstGeom prst="rect">
            <a:avLst/>
          </a:prstGeom>
          <a:solidFill>
            <a:srgbClr val="f3ee1e"/>
          </a:solidFill>
          <a:ln w="57240">
            <a:solidFill>
              <a:srgbClr val="23e93b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alibri"/>
              </a:rPr>
              <a:t>Рефлексия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32"/>
          <p:cNvSpPr/>
          <p:nvPr/>
        </p:nvSpPr>
        <p:spPr>
          <a:xfrm>
            <a:off x="179280" y="2068560"/>
            <a:ext cx="5832720" cy="2838240"/>
          </a:xfrm>
          <a:prstGeom prst="rect">
            <a:avLst/>
          </a:prstGeom>
          <a:solidFill>
            <a:srgbClr val="f3ee1e"/>
          </a:solidFill>
          <a:ln w="38160">
            <a:solidFill>
              <a:srgbClr val="23e9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1. Семья нужна каждому человеку,      потому ч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Главная семейная ценность – это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3. Семья не может существовать без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4.   Чтобы семья была дружной нужно…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Рисунок 9" descr="97845_rodzinka_dom_slonce.jpg"/>
          <p:cNvPicPr/>
          <p:nvPr/>
        </p:nvPicPr>
        <p:blipFill>
          <a:blip r:embed="rId1"/>
          <a:stretch/>
        </p:blipFill>
        <p:spPr>
          <a:xfrm>
            <a:off x="5940360" y="260280"/>
            <a:ext cx="2664000" cy="1800360"/>
          </a:xfrm>
          <a:prstGeom prst="rect">
            <a:avLst/>
          </a:prstGeom>
          <a:ln w="28440">
            <a:solidFill>
              <a:srgbClr val="23e93b"/>
            </a:solidFill>
            <a:miter/>
          </a:ln>
        </p:spPr>
      </p:pic>
      <p:pic>
        <p:nvPicPr>
          <p:cNvPr id="614" name="Рисунок 8" descr="1278696637_screenhunter_10-jul.-09-21.21.gif"/>
          <p:cNvPicPr/>
          <p:nvPr/>
        </p:nvPicPr>
        <p:blipFill>
          <a:blip r:embed="rId2"/>
          <a:stretch/>
        </p:blipFill>
        <p:spPr>
          <a:xfrm>
            <a:off x="5940360" y="3573360"/>
            <a:ext cx="2700360" cy="2160720"/>
          </a:xfrm>
          <a:prstGeom prst="rect">
            <a:avLst/>
          </a:prstGeom>
          <a:ln w="28440">
            <a:solidFill>
              <a:srgbClr val="23e93b"/>
            </a:solidFill>
            <a:miter/>
          </a:ln>
        </p:spPr>
      </p:pic>
      <p:pic>
        <p:nvPicPr>
          <p:cNvPr id="615" name="Рисунок 10" descr="3M_P-YA.jpg"/>
          <p:cNvPicPr/>
          <p:nvPr/>
        </p:nvPicPr>
        <p:blipFill>
          <a:blip r:embed="rId3"/>
          <a:stretch/>
        </p:blipFill>
        <p:spPr>
          <a:xfrm>
            <a:off x="5940360" y="1989000"/>
            <a:ext cx="2664000" cy="1873440"/>
          </a:xfrm>
          <a:prstGeom prst="rect">
            <a:avLst/>
          </a:prstGeom>
          <a:ln w="38160">
            <a:solidFill>
              <a:srgbClr val="23e93b"/>
            </a:solidFill>
            <a:miter/>
          </a:ln>
        </p:spPr>
      </p:pic>
    </p:spTree>
  </p:cSld>
  <p:transition spd="med">
    <p:cover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6"/>
          <p:cNvSpPr/>
          <p:nvPr/>
        </p:nvSpPr>
        <p:spPr>
          <a:xfrm>
            <a:off x="1116000" y="476280"/>
            <a:ext cx="63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WordArt 8"/>
          <p:cNvSpPr txBox="1"/>
          <p:nvPr/>
        </p:nvSpPr>
        <p:spPr>
          <a:xfrm>
            <a:off x="1071720" y="214200"/>
            <a:ext cx="607212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23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то  для  вас  значит  семья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618" name="Picture 27" descr="дети4"/>
          <p:cNvPicPr/>
          <p:nvPr/>
        </p:nvPicPr>
        <p:blipFill>
          <a:blip r:embed="rId1"/>
          <a:stretch/>
        </p:blipFill>
        <p:spPr>
          <a:xfrm>
            <a:off x="7000920" y="1214280"/>
            <a:ext cx="1603440" cy="2376720"/>
          </a:xfrm>
          <a:prstGeom prst="rect">
            <a:avLst/>
          </a:prstGeom>
          <a:ln w="28440">
            <a:solidFill>
              <a:srgbClr val="0070c0"/>
            </a:solidFill>
            <a:miter/>
          </a:ln>
        </p:spPr>
      </p:pic>
      <p:sp>
        <p:nvSpPr>
          <p:cNvPr id="619" name="Прямоугольник с двумя скругленными соседними углами 4"/>
          <p:cNvSpPr/>
          <p:nvPr/>
        </p:nvSpPr>
        <p:spPr>
          <a:xfrm>
            <a:off x="611280" y="981000"/>
            <a:ext cx="5976720" cy="5472360"/>
          </a:xfrm>
          <a:prstGeom prst="pie">
            <a:avLst/>
          </a:prstGeom>
          <a:solidFill>
            <a:srgbClr val="f3ee1e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Напишите синквейн  на тему «Семь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(индивидуальная работ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1 строк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– существительное  – центральное понятие тем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2 строк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-  два прилагательных, характеризующих главное понят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3 строк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-  три глагола,  объясняющих суть происходящих событ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4 строк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– фраза, предложение или крылатое выражение, выражающее отношение автора к тем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Arial"/>
              </a:rPr>
              <a:t>5 строка</a:t>
            </a: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 – слово (синоним), обобщающее или расширяющее смысл темы, итог темы.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6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6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2643120" y="1643040"/>
            <a:ext cx="8002800" cy="49291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Пол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Правиль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Подроб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Постоя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Позитив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WordArt 6" descr=""/>
          <p:cNvPicPr/>
          <p:nvPr/>
        </p:nvPicPr>
        <p:blipFill>
          <a:blip r:embed="rId1"/>
          <a:stretch/>
        </p:blipFill>
        <p:spPr>
          <a:xfrm>
            <a:off x="884160" y="469800"/>
            <a:ext cx="6967440" cy="141444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" descr="https://s40.radikal.ru/i089/1306/1a/68135125c7c2.png"/>
          <p:cNvPicPr/>
          <p:nvPr/>
        </p:nvPicPr>
        <p:blipFill>
          <a:blip r:embed="rId2"/>
          <a:stretch/>
        </p:blipFill>
        <p:spPr>
          <a:xfrm>
            <a:off x="642960" y="3286080"/>
            <a:ext cx="323676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2"/>
          <p:cNvSpPr/>
          <p:nvPr/>
        </p:nvSpPr>
        <p:spPr>
          <a:xfrm>
            <a:off x="4572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00"/>
                </a:solidFill>
                <a:latin typeface="Georgia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450720" y="1413000"/>
            <a:ext cx="8229600" cy="21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  <a:ea typeface="Arial"/>
              </a:rPr>
              <a:t>Выписать в тетрадь функции семьи, выучить записи в тетради, параграф 3, пункт 1,2</a:t>
            </a: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Нарисовать Древо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2"/>
          <p:cNvSpPr/>
          <p:nvPr/>
        </p:nvSpPr>
        <p:spPr>
          <a:xfrm>
            <a:off x="4460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Семья</a:t>
            </a:r>
            <a:r>
              <a:rPr b="0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3"/>
          <p:cNvSpPr/>
          <p:nvPr/>
        </p:nvSpPr>
        <p:spPr>
          <a:xfrm>
            <a:off x="781200" y="836640"/>
            <a:ext cx="75596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емья – это счастье, любовь и удач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емья – это летом поездки на да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емья – это праздник, семейные да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Подарки, покупки, приятные тр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Рождение детей, первый шаг, первый леп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Мечты о хорошем, волнение, треп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емья – это труд, друг о друге забот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емья – это много домашне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Семья – это важно! Семья – это сло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Но счастливо жить одному невозможн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Всегда будьте вместе, любовь берег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Обиды и ссоры подальше гон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Хотим, чтоб про вас говорили друзь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4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  <a:ea typeface="Arial"/>
              </a:rPr>
              <a:t>Какая хорошая Ваша семь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Прямоугольник 1"/>
          <p:cNvSpPr/>
          <p:nvPr/>
        </p:nvSpPr>
        <p:spPr>
          <a:xfrm>
            <a:off x="395280" y="404640"/>
            <a:ext cx="842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адание 1 группы.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читайте материал учебника на стр. 27 и заполните схему как создаются и что является основой создания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хема 2" descr=""/>
          <p:cNvPicPr/>
          <p:nvPr/>
        </p:nvPicPr>
        <p:blipFill>
          <a:blip r:embed="rId1"/>
          <a:stretch/>
        </p:blipFill>
        <p:spPr>
          <a:xfrm>
            <a:off x="1390680" y="3133800"/>
            <a:ext cx="672948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Содержимое 4" descr="1231174251_semia_glavnoe.jpg"/>
          <p:cNvPicPr/>
          <p:nvPr/>
        </p:nvPicPr>
        <p:blipFill>
          <a:blip r:embed="rId1"/>
          <a:stretch/>
        </p:blipFill>
        <p:spPr>
          <a:xfrm>
            <a:off x="971640" y="549360"/>
            <a:ext cx="7011720" cy="5248080"/>
          </a:xfrm>
          <a:prstGeom prst="rect">
            <a:avLst/>
          </a:prstGeom>
          <a:ln w="38160">
            <a:solidFill>
              <a:srgbClr val="0070c0"/>
            </a:solidFill>
            <a:miter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5" descr="Безымянный"/>
          <p:cNvPicPr/>
          <p:nvPr/>
        </p:nvPicPr>
        <p:blipFill>
          <a:blip r:embed="rId1"/>
          <a:stretch/>
        </p:blipFill>
        <p:spPr>
          <a:xfrm>
            <a:off x="322200" y="333360"/>
            <a:ext cx="619452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Прямоугольник 1"/>
          <p:cNvSpPr/>
          <p:nvPr/>
        </p:nvSpPr>
        <p:spPr>
          <a:xfrm>
            <a:off x="324000" y="404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Задание 1 группы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мьи образуются по-разном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539640" y="2637000"/>
            <a:ext cx="80121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Прямоугольник 1"/>
          <p:cNvSpPr/>
          <p:nvPr/>
        </p:nvSpPr>
        <p:spPr>
          <a:xfrm>
            <a:off x="395280" y="404640"/>
            <a:ext cx="8424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Arial"/>
              </a:rPr>
              <a:t>Задание 2 группы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ставьте графически семью в виде солнышка с расходящимися лучами. Рядом с каждым лучом подпишите одно из назначений семьи. При выполнении задания вспомните примеры из жизни вашей собственной семьи,также вам поможет учебник страница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Схема 2" descr=""/>
          <p:cNvPicPr/>
          <p:nvPr/>
        </p:nvPicPr>
        <p:blipFill>
          <a:blip r:embed="rId1"/>
          <a:stretch/>
        </p:blipFill>
        <p:spPr>
          <a:xfrm>
            <a:off x="2408400" y="3279600"/>
            <a:ext cx="4400280" cy="299268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3" descr="http://img.lenagold.ru/s/soln/solna35.png"/>
          <p:cNvPicPr/>
          <p:nvPr/>
        </p:nvPicPr>
        <p:blipFill>
          <a:blip r:embed="rId2"/>
          <a:stretch/>
        </p:blipFill>
        <p:spPr>
          <a:xfrm>
            <a:off x="3862440" y="4221000"/>
            <a:ext cx="149076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Прямоугольник 2"/>
          <p:cNvSpPr/>
          <p:nvPr/>
        </p:nvSpPr>
        <p:spPr>
          <a:xfrm>
            <a:off x="2251440" y="189000"/>
            <a:ext cx="355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Georgia"/>
              </a:rPr>
              <a:t>Функции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" name="Группа 5"/>
          <p:cNvGrpSpPr/>
          <p:nvPr/>
        </p:nvGrpSpPr>
        <p:grpSpPr>
          <a:xfrm>
            <a:off x="395280" y="1074600"/>
            <a:ext cx="8280360" cy="5249880"/>
            <a:chOff x="395280" y="1074600"/>
            <a:chExt cx="8280360" cy="5249880"/>
          </a:xfrm>
        </p:grpSpPr>
        <p:pic>
          <p:nvPicPr>
            <p:cNvPr id="570" name="Схема 3" descr=""/>
            <p:cNvPicPr/>
            <p:nvPr/>
          </p:nvPicPr>
          <p:blipFill>
            <a:blip r:embed="rId1"/>
            <a:stretch/>
          </p:blipFill>
          <p:spPr>
            <a:xfrm>
              <a:off x="395280" y="1074600"/>
              <a:ext cx="8280360" cy="52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" name="Рисунок 4" descr="http://img.lenagold.ru/s/soln/solna35.png"/>
            <p:cNvPicPr/>
            <p:nvPr/>
          </p:nvPicPr>
          <p:blipFill>
            <a:blip r:embed="rId2"/>
            <a:stretch/>
          </p:blipFill>
          <p:spPr>
            <a:xfrm>
              <a:off x="3454560" y="2526840"/>
              <a:ext cx="2465280" cy="236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2" name="Овал 6"/>
          <p:cNvSpPr/>
          <p:nvPr/>
        </p:nvSpPr>
        <p:spPr>
          <a:xfrm>
            <a:off x="3451320" y="1197000"/>
            <a:ext cx="2474640" cy="100800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7"/>
          <p:cNvSpPr/>
          <p:nvPr/>
        </p:nvSpPr>
        <p:spPr>
          <a:xfrm>
            <a:off x="6084720" y="1866960"/>
            <a:ext cx="2619720" cy="12747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8"/>
          <p:cNvSpPr/>
          <p:nvPr/>
        </p:nvSpPr>
        <p:spPr>
          <a:xfrm>
            <a:off x="5724360" y="4395960"/>
            <a:ext cx="2980080" cy="16970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9"/>
          <p:cNvSpPr/>
          <p:nvPr/>
        </p:nvSpPr>
        <p:spPr>
          <a:xfrm>
            <a:off x="1042920" y="4548240"/>
            <a:ext cx="2979720" cy="16970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0"/>
          <p:cNvSpPr/>
          <p:nvPr/>
        </p:nvSpPr>
        <p:spPr>
          <a:xfrm>
            <a:off x="471600" y="1852560"/>
            <a:ext cx="2979720" cy="1698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Прямоугольник 1"/>
          <p:cNvSpPr/>
          <p:nvPr/>
        </p:nvSpPr>
        <p:spPr>
          <a:xfrm>
            <a:off x="468360" y="189000"/>
            <a:ext cx="8136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c00000"/>
                </a:solidFill>
                <a:uFillTx/>
                <a:latin typeface="Georgia"/>
              </a:rPr>
              <a:t>СЕМЬЯ</a:t>
            </a:r>
            <a:r>
              <a:rPr b="1" i="1" lang="ru-RU" sz="5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– это социальная группа, основанная на родственных связях (по браку, по крови), связанная общим бытом, взаимной помощью, заботой и ответственность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Рисунок 6" descr="http://img-fotki.yandex.ru/get/9255/981986.4c/0_884cc_2857d78f_orig"/>
          <p:cNvPicPr/>
          <p:nvPr/>
        </p:nvPicPr>
        <p:blipFill>
          <a:blip r:embed="rId1"/>
          <a:stretch/>
        </p:blipFill>
        <p:spPr>
          <a:xfrm>
            <a:off x="3203640" y="4443480"/>
            <a:ext cx="42069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Picture 5" descr="fiz"/>
          <p:cNvPicPr/>
          <p:nvPr/>
        </p:nvPicPr>
        <p:blipFill>
          <a:blip r:embed="rId1"/>
          <a:stretch/>
        </p:blipFill>
        <p:spPr>
          <a:xfrm>
            <a:off x="3276720" y="1341360"/>
            <a:ext cx="2520720" cy="4032360"/>
          </a:xfrm>
          <a:prstGeom prst="rect">
            <a:avLst/>
          </a:prstGeom>
          <a:ln w="28440">
            <a:solidFill>
              <a:srgbClr val="3333cc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Прямоугольник 4"/>
          <p:cNvSpPr/>
          <p:nvPr/>
        </p:nvSpPr>
        <p:spPr>
          <a:xfrm>
            <a:off x="390600" y="404640"/>
            <a:ext cx="84247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Задание 3 групп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Изучите текст на странице 28, Конституцию статью 38. Какие документы защищают семью?  Как вы понимаете слова « семья, материнство, отцовство, детство находятся под защитой государства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7" descr=""/>
          <p:cNvPicPr/>
          <p:nvPr/>
        </p:nvPicPr>
        <p:blipFill>
          <a:blip r:embed="rId1"/>
          <a:stretch/>
        </p:blipFill>
        <p:spPr>
          <a:xfrm>
            <a:off x="6370560" y="3987720"/>
            <a:ext cx="1633680" cy="2417760"/>
          </a:xfrm>
          <a:prstGeom prst="rect">
            <a:avLst/>
          </a:prstGeom>
          <a:ln w="0">
            <a:noFill/>
          </a:ln>
        </p:spPr>
      </p:pic>
      <p:sp>
        <p:nvSpPr>
          <p:cNvPr id="584" name="Прямоугольник 4"/>
          <p:cNvSpPr/>
          <p:nvPr/>
        </p:nvSpPr>
        <p:spPr>
          <a:xfrm>
            <a:off x="395280" y="404640"/>
            <a:ext cx="8424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Georgia"/>
                <a:ea typeface="Arial"/>
              </a:rPr>
              <a:t>Документы защищающие семью в Российской Федер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Конституция Российской Федерации, статья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  <a:ea typeface="Arial"/>
              </a:rPr>
              <a:t>Семейный кодекс Российской Федер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2" descr="https://avatars.mds.yandex.net/get-marketpic/163651/market_UyZ_KoDRprqnW_eCvVNC3w/orig"/>
          <p:cNvPicPr/>
          <p:nvPr/>
        </p:nvPicPr>
        <p:blipFill>
          <a:blip r:embed="rId2"/>
          <a:stretch/>
        </p:blipFill>
        <p:spPr>
          <a:xfrm>
            <a:off x="3584520" y="3968640"/>
            <a:ext cx="24177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1T20:04:26Z</dcterms:created>
  <dc:creator>server</dc:creator>
  <dc:description/>
  <dc:language>en-US</dc:language>
  <cp:lastModifiedBy>Уруков</cp:lastModifiedBy>
  <dcterms:modified xsi:type="dcterms:W3CDTF">2018-10-16T09:49:19Z</dcterms:modified>
  <cp:revision>134</cp:revision>
  <dc:subject/>
  <dc:title>Шары</dc:title>
</cp:coreProperties>
</file>