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E967-AF73-44EA-BFB1-602ABD87AE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163B-88CA-4325-ACA3-3186A2A30A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BA6-6A56-4B0F-9F94-89366530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27A7-8F70-4B97-A451-94E590BF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559-EC84-48CF-9E3B-492D6DEB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496-6FC3-4024-8933-B84951B0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644-7B30-44CB-B917-77EF5409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B51-BF2F-4E77-939B-F0C4306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CDB-E0CA-4073-AB64-C4C7A4B4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6CF-C21B-4FC3-9C7E-476480A4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607-B858-45CA-B8A8-6472E4F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139-D9A0-46F1-A3BC-FD566F3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09D-FFC0-4A28-9EDB-1D9EA8F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43E-A788-434C-B95C-3906BB0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28F5-2CF6-4FF6-B6A0-92E307492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6" descr="28287.jpg"/>
          <p:cNvPicPr/>
          <p:nvPr/>
        </p:nvPicPr>
        <p:blipFill>
          <a:blip r:embed="rId2"/>
          <a:stretch/>
        </p:blipFill>
        <p:spPr>
          <a:xfrm>
            <a:off x="285840" y="214200"/>
            <a:ext cx="8577000" cy="635796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7" descr="lineechka-60.gif"/>
          <p:cNvPicPr/>
          <p:nvPr/>
        </p:nvPicPr>
        <p:blipFill>
          <a:blip r:embed="rId3"/>
          <a:stretch/>
        </p:blipFill>
        <p:spPr>
          <a:xfrm flipH="1">
            <a:off x="214200" y="6000840"/>
            <a:ext cx="8715600" cy="8571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9" descr="music.pngv.png"/>
          <p:cNvPicPr/>
          <p:nvPr/>
        </p:nvPicPr>
        <p:blipFill>
          <a:blip r:embed="rId4"/>
          <a:stretch/>
        </p:blipFill>
        <p:spPr>
          <a:xfrm rot="1411200">
            <a:off x="7983360" y="125280"/>
            <a:ext cx="795600" cy="7956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10" descr="phoca_thumb_l_music-40.jpg"/>
          <p:cNvPicPr/>
          <p:nvPr/>
        </p:nvPicPr>
        <p:blipFill>
          <a:blip r:embed="rId5"/>
          <a:stretch/>
        </p:blipFill>
        <p:spPr>
          <a:xfrm>
            <a:off x="8215200" y="571680"/>
            <a:ext cx="67464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900igr.net/prezentatsii/strany/s.-Rossija-2.files/038-Balalajki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5280" cy="204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оми народные музыкаль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игра на чипсанах"/>
          <p:cNvPicPr/>
          <p:nvPr/>
        </p:nvPicPr>
        <p:blipFill>
          <a:blip r:embed="rId1"/>
          <a:stretch/>
        </p:blipFill>
        <p:spPr>
          <a:xfrm>
            <a:off x="250920" y="189000"/>
            <a:ext cx="86770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Zarni An folk group"/>
          <p:cNvPicPr/>
          <p:nvPr/>
        </p:nvPicPr>
        <p:blipFill>
          <a:blip r:embed="rId1"/>
          <a:stretch/>
        </p:blipFill>
        <p:spPr>
          <a:xfrm>
            <a:off x="1258920" y="1209600"/>
            <a:ext cx="3238560" cy="2381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Zarni An folk group"/>
          <p:cNvPicPr/>
          <p:nvPr/>
        </p:nvPicPr>
        <p:blipFill>
          <a:blip r:embed="rId2"/>
          <a:stretch/>
        </p:blipFill>
        <p:spPr>
          <a:xfrm>
            <a:off x="1258920" y="3573360"/>
            <a:ext cx="3238560" cy="2381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Zarni An folk group"/>
          <p:cNvPicPr/>
          <p:nvPr/>
        </p:nvPicPr>
        <p:blipFill>
          <a:blip r:embed="rId3"/>
          <a:stretch/>
        </p:blipFill>
        <p:spPr>
          <a:xfrm>
            <a:off x="4716360" y="1197000"/>
            <a:ext cx="3524400" cy="2381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Zarni An folk group"/>
          <p:cNvPicPr/>
          <p:nvPr/>
        </p:nvPicPr>
        <p:blipFill>
          <a:blip r:embed="rId4"/>
          <a:stretch/>
        </p:blipFill>
        <p:spPr>
          <a:xfrm>
            <a:off x="4716360" y="3573360"/>
            <a:ext cx="3524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684360" y="47484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рунные инструменты К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и струнных инструментов (хордофонов)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нган (гудящий, гулкий) — струнный ударный инструмент с приспособленным резонаторным ящиком больших размеров (голбец — деревянная пристройка к кухонной печи), струны проволочные длиной от 65 до 125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унган изготовлялся следующим образом. На боковую стенку деревенского голбца прибивают пять длинных и толстых проволочных струн и пять отдельных подвижных струнных подставок — колодок высотой 3,5 см. Настройка брунгана производилась передвижением колодочек ударами молоточка: для повышения звука их раздвигали — увеличивалась степень натяжения упругости струн, для понижения — сдвиг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0038-038-Balalaj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08000" y="83664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И. Налимов (1857-1916) прославился как выдающийся мастер балалаечных дел «балалаечный Страдивари». Балалайки Налимова обладали совершенством форм, отличались изящной отделкой, имели редкий по красоте тембра зв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dot"/>
          <p:cNvPicPr/>
          <p:nvPr/>
        </p:nvPicPr>
        <p:blipFill>
          <a:blip r:embed="rId1"/>
          <a:stretch/>
        </p:blipFill>
        <p:spPr>
          <a:xfrm>
            <a:off x="3203640" y="1484280"/>
            <a:ext cx="2666880" cy="394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snalimov"/>
          <p:cNvPicPr/>
          <p:nvPr/>
        </p:nvPicPr>
        <p:blipFill>
          <a:blip r:embed="rId2"/>
          <a:stretch/>
        </p:blipFill>
        <p:spPr>
          <a:xfrm>
            <a:off x="1042920" y="189000"/>
            <a:ext cx="3353040" cy="43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z397"/>
          <p:cNvPicPr/>
          <p:nvPr/>
        </p:nvPicPr>
        <p:blipFill>
          <a:blip r:embed="rId3"/>
          <a:stretch/>
        </p:blipFill>
        <p:spPr>
          <a:xfrm>
            <a:off x="4643280" y="189000"/>
            <a:ext cx="4356360" cy="428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4500720" y="501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755640" y="4797360"/>
            <a:ext cx="303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ён Иван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57 - 1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356000" y="517680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Семёну Налимо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. Выльг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foto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4629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-128520" y="4869000"/>
            <a:ext cx="92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гудэк - любимый ко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ом традици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й инструм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тневидный трехстру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ычковый, с долблёным корпус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551-359-3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4572000" y="1166760"/>
            <a:ext cx="439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удок — подвижный музыкальный инструмент с волосяными струнами. Относится к составным лютневидным хордофонам типа шейковых лютней и представляет собой трех или четырех струнный смычковый инструмент. Сигудки имеют разнообразные внешние формы — от простой плоской досчатой до фигурной скрипичной. Сигудки особенно бытовали в среде охотников верховьев Вычегды. На них музицировали, как дома, так и в охотничьем срубе в лесной чаще во время охоты. С изготовлением сигудка, согласно древним верованиям коми-зырян, на земле появилась музыка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orchestra1"/>
          <p:cNvPicPr/>
          <p:nvPr/>
        </p:nvPicPr>
        <p:blipFill>
          <a:blip r:embed="rId1"/>
          <a:stretch/>
        </p:blipFill>
        <p:spPr>
          <a:xfrm>
            <a:off x="1403280" y="0"/>
            <a:ext cx="5877000" cy="2774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ркестр народных инструменов"/>
          <p:cNvPicPr/>
          <p:nvPr/>
        </p:nvPicPr>
        <p:blipFill>
          <a:blip r:embed="rId2"/>
          <a:stretch/>
        </p:blipFill>
        <p:spPr>
          <a:xfrm>
            <a:off x="1403280" y="2708280"/>
            <a:ext cx="5877000" cy="27748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1332000" y="566100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кестр Коми народных инстру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Сигудэ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Mihael Burdin"/>
          <p:cNvPicPr/>
          <p:nvPr/>
        </p:nvPicPr>
        <p:blipFill>
          <a:blip r:embed="rId1"/>
          <a:stretch/>
        </p:blipFill>
        <p:spPr>
          <a:xfrm>
            <a:off x="1476360" y="1440"/>
            <a:ext cx="6551640" cy="341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Mihael Burdin"/>
          <p:cNvPicPr/>
          <p:nvPr/>
        </p:nvPicPr>
        <p:blipFill>
          <a:blip r:embed="rId2"/>
          <a:stretch/>
        </p:blipFill>
        <p:spPr>
          <a:xfrm>
            <a:off x="1476360" y="3357720"/>
            <a:ext cx="6551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игра на сигудке и чипсане"/>
          <p:cNvPicPr/>
          <p:nvPr/>
        </p:nvPicPr>
        <p:blipFill>
          <a:blip r:embed="rId1"/>
          <a:stretch/>
        </p:blipFill>
        <p:spPr>
          <a:xfrm>
            <a:off x="0" y="0"/>
            <a:ext cx="61117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6227640" y="170028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на сигуд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чипс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Коми традиционные инструменты"/>
          <p:cNvPicPr/>
          <p:nvPr/>
        </p:nvPicPr>
        <p:blipFill>
          <a:blip r:embed="rId1"/>
          <a:stretch/>
        </p:blipFill>
        <p:spPr>
          <a:xfrm>
            <a:off x="395280" y="1341360"/>
            <a:ext cx="206676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Коми музыкальные инструменты"/>
          <p:cNvPicPr/>
          <p:nvPr/>
        </p:nvPicPr>
        <p:blipFill>
          <a:blip r:embed="rId2"/>
          <a:stretch/>
        </p:blipFill>
        <p:spPr>
          <a:xfrm>
            <a:off x="2411280" y="1341360"/>
            <a:ext cx="2067120" cy="2133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оми традиционные инструменты"/>
          <p:cNvPicPr/>
          <p:nvPr/>
        </p:nvPicPr>
        <p:blipFill>
          <a:blip r:embed="rId3"/>
          <a:stretch/>
        </p:blipFill>
        <p:spPr>
          <a:xfrm>
            <a:off x="4788000" y="1341360"/>
            <a:ext cx="3485880" cy="2133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Коми традиционные инструменты"/>
          <p:cNvPicPr/>
          <p:nvPr/>
        </p:nvPicPr>
        <p:blipFill>
          <a:blip r:embed="rId4"/>
          <a:stretch/>
        </p:blipFill>
        <p:spPr>
          <a:xfrm>
            <a:off x="395280" y="3429000"/>
            <a:ext cx="206676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Коми музыкальные инструменты"/>
          <p:cNvPicPr/>
          <p:nvPr/>
        </p:nvPicPr>
        <p:blipFill>
          <a:blip r:embed="rId5"/>
          <a:stretch/>
        </p:blipFill>
        <p:spPr>
          <a:xfrm>
            <a:off x="2411280" y="3429000"/>
            <a:ext cx="206712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ми музыкальные инструменты"/>
          <p:cNvPicPr/>
          <p:nvPr/>
        </p:nvPicPr>
        <p:blipFill>
          <a:blip r:embed="rId6"/>
          <a:stretch/>
        </p:blipFill>
        <p:spPr>
          <a:xfrm>
            <a:off x="4788000" y="3429000"/>
            <a:ext cx="348588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6761160" y="328860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24000" y="279360"/>
            <a:ext cx="862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ми народные 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kantele0050"/>
          <p:cNvPicPr/>
          <p:nvPr/>
        </p:nvPicPr>
        <p:blipFill>
          <a:blip r:embed="rId1"/>
          <a:stretch/>
        </p:blipFill>
        <p:spPr>
          <a:xfrm>
            <a:off x="1042920" y="260280"/>
            <a:ext cx="7143840" cy="5505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671480" y="618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576576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унган – один из самых распространё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зыкальных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26920" y="1305000"/>
            <a:ext cx="7417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дарные инструменты к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ые инструменты (идиофоны)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тшкбдчан (стукалка) — колотушка в виде долбленой колодки и рукоятки с подвижным билом или привязанным шарик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ярган (трещотка) — ребристый валик с рукояткой и скользящей по нему деревянной пластинкой внутри рам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ыннян (колокол) — деревянный, долбленый из куска березы и жестяной клепа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 паньяс (деревянные лож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 бедьяс (деревянные палки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 пов (деревянная дощечка, бараб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syargan1"/>
          <p:cNvPicPr/>
          <p:nvPr/>
        </p:nvPicPr>
        <p:blipFill>
          <a:blip r:embed="rId1"/>
          <a:stretch/>
        </p:blipFill>
        <p:spPr>
          <a:xfrm>
            <a:off x="936720" y="692280"/>
            <a:ext cx="3009960" cy="2543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syargan2"/>
          <p:cNvPicPr/>
          <p:nvPr/>
        </p:nvPicPr>
        <p:blipFill>
          <a:blip r:embed="rId2"/>
          <a:stretch/>
        </p:blipFill>
        <p:spPr>
          <a:xfrm>
            <a:off x="3924360" y="692280"/>
            <a:ext cx="3009960" cy="25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syargana"/>
          <p:cNvPicPr/>
          <p:nvPr/>
        </p:nvPicPr>
        <p:blipFill>
          <a:blip r:embed="rId3"/>
          <a:stretch/>
        </p:blipFill>
        <p:spPr>
          <a:xfrm>
            <a:off x="944640" y="3206880"/>
            <a:ext cx="3009960" cy="2543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syarganb"/>
          <p:cNvPicPr/>
          <p:nvPr/>
        </p:nvPicPr>
        <p:blipFill>
          <a:blip r:embed="rId4"/>
          <a:stretch/>
        </p:blipFill>
        <p:spPr>
          <a:xfrm>
            <a:off x="3892680" y="3213000"/>
            <a:ext cx="3009600" cy="2543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1259280" y="5967360"/>
            <a:ext cx="632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ярган (трещотка)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диционный ко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одный музыкальный инструмен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09"/>
          <p:cNvPicPr/>
          <p:nvPr/>
        </p:nvPicPr>
        <p:blipFill>
          <a:blip r:embed="rId1"/>
          <a:stretch/>
        </p:blipFill>
        <p:spPr>
          <a:xfrm>
            <a:off x="250920" y="189000"/>
            <a:ext cx="6095880" cy="58482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1"/>
          <p:cNvSpPr/>
          <p:nvPr/>
        </p:nvSpPr>
        <p:spPr>
          <a:xfrm>
            <a:off x="6346800" y="2690640"/>
            <a:ext cx="2401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одный мастер из с.Визинга Сысольского района демонстрирует один из видов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орга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оего производства (в его левой руке), мастер назвал его табя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24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0" y="0"/>
            <a:ext cx="1058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е варианты Коми национального нар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трумент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ур–ша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берест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08"/>
          <p:cNvPicPr/>
          <p:nvPr/>
        </p:nvPicPr>
        <p:blipFill>
          <a:blip r:embed="rId1"/>
          <a:stretch/>
        </p:blipFill>
        <p:spPr>
          <a:xfrm>
            <a:off x="1666800" y="219240"/>
            <a:ext cx="5810400" cy="5848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395280" y="60930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авой руке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шур–ша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бересты (похож на погремушку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020"/>
          <p:cNvPicPr/>
          <p:nvPr/>
        </p:nvPicPr>
        <p:blipFill>
          <a:blip r:embed="rId1"/>
          <a:stretch/>
        </p:blipFill>
        <p:spPr>
          <a:xfrm>
            <a:off x="-17640" y="0"/>
            <a:ext cx="61279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567480" y="1989000"/>
            <a:ext cx="230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а на чипс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а трещо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Mihael Burdin and Zarni An"/>
          <p:cNvPicPr/>
          <p:nvPr/>
        </p:nvPicPr>
        <p:blipFill>
          <a:blip r:embed="rId1"/>
          <a:stretch/>
        </p:blipFill>
        <p:spPr>
          <a:xfrm>
            <a:off x="755640" y="69228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Zarni An folk group"/>
          <p:cNvPicPr/>
          <p:nvPr/>
        </p:nvPicPr>
        <p:blipFill>
          <a:blip r:embed="rId2"/>
          <a:stretch/>
        </p:blipFill>
        <p:spPr>
          <a:xfrm>
            <a:off x="5148360" y="765000"/>
            <a:ext cx="2571480" cy="23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Zarni An folk group"/>
          <p:cNvPicPr/>
          <p:nvPr/>
        </p:nvPicPr>
        <p:blipFill>
          <a:blip r:embed="rId3"/>
          <a:stretch/>
        </p:blipFill>
        <p:spPr>
          <a:xfrm>
            <a:off x="5148360" y="3141720"/>
            <a:ext cx="25714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250920" y="84600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70c0"/>
                </a:solidFill>
                <a:latin typeface="Arial"/>
              </a:rPr>
              <a:t>Шаблон презентации </a:t>
            </a: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easyen.ru/load/metodika/k_prezentacijam/shablony/277-1-0-25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 flipV="1" rot="10800000">
            <a:off x="250920" y="1744560"/>
            <a:ext cx="7416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 flipV="1" rot="10800000">
            <a:off x="250560" y="1103040"/>
            <a:ext cx="7993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foto11.com/photo/collection/musicinstruments/77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www.tomovl.ru/komi/Muzykalnye_instrumenty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foto11.com/photo/collection/musicinstruments/05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foto11.com/photo/collection/musicinstruments/51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foto11.com/photo/collection/musicinstruments/10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foto11.com/photo/collection/musicinstruments/chipsan.ph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70c0"/>
                </a:solidFill>
                <a:latin typeface="Arial"/>
              </a:rPr>
              <a:t>http://gazetaraduga.ru/kultura/skromnyy-geniy-02-02-2015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Calibri"/>
              </a:rPr>
              <a:t>Использованы материалы: В. Н. Белицер, Очерки по этнографии народов коми, 1958; П. Чисталев, Коми народные музыкальные инструменты, Сыктывкар, 1984; Энциклопедия РК, Сыктывкар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268360" y="47628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сточн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узыкальные инструмен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635120" y="1844640"/>
            <a:ext cx="313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хо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дар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179280" y="4221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е инструменты коми связаны с пастушеским и охотничьим образом жизни, обрядами, праздничными гуляньями, детскими забавами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ухов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50920" y="155736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зыкальные инструменты коми отличаются разнообразием типов и их местных разновидностей. Наиболее распространенными были духовые инструменты (аэрофоны):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псан, пэлян, бадь пу чипсан (ивовый свисток) и сьола чипсан (рябчиковый свисток, манок) — закрытые (с одного конца) продольные флейты 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истковым вырезом и вставной деревянной пробкой со щел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ум пэлян (дудка из стебля гума, дудника) — продольная губно-щелевая флейта со свистковым выр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ёй пэлян (глиняная дудка в форме птицы) — свистковая флейта с двумя игров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зас чипсан (соломенный свисток) и бадь пу пэлян (ивовая дудка с выкрученной сердцевиной) — аэрофоны с одинарным бьющим язычком типа кларн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мод пэлян, сюмод буксан, (берестяная дудка) — аэрофон с двойным бьющим язычком типа гобо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03"/>
          <p:cNvPicPr/>
          <p:nvPr/>
        </p:nvPicPr>
        <p:blipFill>
          <a:blip r:embed="rId1"/>
          <a:stretch/>
        </p:blipFill>
        <p:spPr>
          <a:xfrm>
            <a:off x="250920" y="189000"/>
            <a:ext cx="6095880" cy="5713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346800" y="1773360"/>
            <a:ext cx="2546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и традиционный музыкальный инструмент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эля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ет быть самой разной форм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05"/>
          <p:cNvPicPr/>
          <p:nvPr/>
        </p:nvPicPr>
        <p:blipFill>
          <a:blip r:embed="rId1"/>
          <a:stretch/>
        </p:blipFill>
        <p:spPr>
          <a:xfrm>
            <a:off x="4680" y="0"/>
            <a:ext cx="55850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589720" y="1700280"/>
            <a:ext cx="330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одный мастер из Центра Коми культуры "Югöр" (г.Ухта) играет на коми традиционном музыкальном инструмент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элян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воего производ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игра на сюмöд буксане"/>
          <p:cNvPicPr/>
          <p:nvPr/>
        </p:nvPicPr>
        <p:blipFill>
          <a:blip r:embed="rId1"/>
          <a:stretch/>
        </p:blipFill>
        <p:spPr>
          <a:xfrm>
            <a:off x="179280" y="181080"/>
            <a:ext cx="4762440" cy="1971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игра на сюмöд буксане"/>
          <p:cNvPicPr/>
          <p:nvPr/>
        </p:nvPicPr>
        <p:blipFill>
          <a:blip r:embed="rId2"/>
          <a:stretch/>
        </p:blipFill>
        <p:spPr>
          <a:xfrm>
            <a:off x="179280" y="2133720"/>
            <a:ext cx="4762440" cy="1971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2560680" y="4221000"/>
            <a:ext cx="632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юмöд букса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рожок из берес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бьющим язычком (гобой), вероят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й древний, ещё древне–финск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й инструмен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оми распространен повсеместн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куима чипсан"/>
          <p:cNvPicPr/>
          <p:nvPr/>
        </p:nvPicPr>
        <p:blipFill>
          <a:blip r:embed="rId1"/>
          <a:stretch/>
        </p:blipFill>
        <p:spPr>
          <a:xfrm>
            <a:off x="826920" y="333360"/>
            <a:ext cx="2457720" cy="19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куима чипсан"/>
          <p:cNvPicPr/>
          <p:nvPr/>
        </p:nvPicPr>
        <p:blipFill>
          <a:blip r:embed="rId2"/>
          <a:stretch/>
        </p:blipFill>
        <p:spPr>
          <a:xfrm>
            <a:off x="826920" y="2276640"/>
            <a:ext cx="2457720" cy="1971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635280" y="1484280"/>
            <a:ext cx="55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ипс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свист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общее название свистя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ых инстр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авливаемых из стеб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удника.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Чипса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ьшие и малень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ояли из одного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их сви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игра на куима чипсанах"/>
          <p:cNvPicPr/>
          <p:nvPr/>
        </p:nvPicPr>
        <p:blipFill>
          <a:blip r:embed="rId1"/>
          <a:stretch/>
        </p:blipFill>
        <p:spPr>
          <a:xfrm>
            <a:off x="1095480" y="216000"/>
            <a:ext cx="6881760" cy="5416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620720" y="56800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а на чипс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16:58:42Z</dcterms:created>
  <dc:creator>Lenovo</dc:creator>
  <dc:description/>
  <dc:language>en-US</dc:language>
  <cp:lastModifiedBy>Admin</cp:lastModifiedBy>
  <dcterms:modified xsi:type="dcterms:W3CDTF">2018-10-17T11:09:27Z</dcterms:modified>
  <cp:revision>29</cp:revision>
  <dc:subject/>
  <dc:title>Слайд 1</dc:title>
</cp:coreProperties>
</file>