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F94-7309-4A49-8206-D2BEAD3D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84D-44EE-45EE-8164-6C0C7E2E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C21-4364-4C49-B0DF-46E53118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3E1-982A-435B-B542-AAF65BB7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B9E-D35F-4B80-B7B8-4F714D9D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6D1-D413-4234-B095-53B89EA0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9AB-A9B8-44C3-9518-7BD41F8D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5B4-3D73-4F54-9DFF-9FB2F2DD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901-766A-46F9-BAC7-4A764EE1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B00-69B9-44BA-9DE8-F81F7E9C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E25-56B7-4AE8-AE14-C514137C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D9E-37BC-4C1D-8E54-591A6DB9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0D7C-DC97-4983-BBC0-43FFDA8F3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836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 Black"/>
                <a:ea typeface="Arial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Times New Roman"/>
                <a:ea typeface="Arial"/>
              </a:rPr>
              <a:t>«Здоровьесберегающие  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Times New Roman"/>
                <a:ea typeface="Arial"/>
              </a:rPr>
              <a:t>технологии»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 Black"/>
                <a:ea typeface="Arial"/>
              </a:rPr>
              <a:t>              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  <a:ea typeface="Arial"/>
              </a:rPr>
              <a:t>Воспитатель: 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  <a:ea typeface="Arial"/>
              </a:rPr>
              <a:t>Чупрова Г.Г.</a:t>
            </a:r>
            <a:br>
              <a:rPr sz="4000"/>
            </a:br>
            <a:br>
              <a:rPr sz="4000"/>
            </a:b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211640" y="4076640"/>
            <a:ext cx="48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1258920" y="4578480"/>
            <a:ext cx="66978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Сказкотерапия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464292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Сказкотерапия - средство создания эмоционального благополучия ребенка дошкольного возраста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Users\Пользователь\Desktop\2015\DSCN4488.JPG"/>
          <p:cNvPicPr/>
          <p:nvPr/>
        </p:nvPicPr>
        <p:blipFill>
          <a:blip r:embed="rId1"/>
          <a:stretch/>
        </p:blipFill>
        <p:spPr>
          <a:xfrm>
            <a:off x="1643040" y="100008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Самостоятельная деятельность детей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3716280"/>
            <a:ext cx="1870200" cy="23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C:\Users\user\Desktop\Новая папка (2)\DSCN3960.JPG"/>
          <p:cNvPicPr/>
          <p:nvPr/>
        </p:nvPicPr>
        <p:blipFill>
          <a:blip r:embed="rId1"/>
          <a:stretch/>
        </p:blipFill>
        <p:spPr>
          <a:xfrm>
            <a:off x="5429160" y="1714680"/>
            <a:ext cx="2881440" cy="216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user\Desktop\Новая папка (2)\DSCN3968.JPG"/>
          <p:cNvPicPr/>
          <p:nvPr/>
        </p:nvPicPr>
        <p:blipFill>
          <a:blip r:embed="rId2"/>
          <a:stretch/>
        </p:blipFill>
        <p:spPr>
          <a:xfrm>
            <a:off x="684360" y="177336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Users\user\Desktop\Новая папка (2)\DSCN3984.JPG"/>
          <p:cNvPicPr/>
          <p:nvPr/>
        </p:nvPicPr>
        <p:blipFill>
          <a:blip r:embed="rId3"/>
          <a:stretch/>
        </p:blipFill>
        <p:spPr>
          <a:xfrm>
            <a:off x="1143000" y="40719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Users\Пользователь\Desktop\2015\DSCN4524.JPG"/>
          <p:cNvPicPr/>
          <p:nvPr/>
        </p:nvPicPr>
        <p:blipFill>
          <a:blip r:embed="rId4"/>
          <a:stretch/>
        </p:blipFill>
        <p:spPr>
          <a:xfrm>
            <a:off x="4643280" y="4071960"/>
            <a:ext cx="328644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Степ аэробик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Users\Пользователь\Desktop\галка к аттестации\DSCN4312.JPG"/>
          <p:cNvPicPr/>
          <p:nvPr/>
        </p:nvPicPr>
        <p:blipFill>
          <a:blip r:embed="rId1"/>
          <a:stretch/>
        </p:blipFill>
        <p:spPr>
          <a:xfrm>
            <a:off x="1500120" y="1500120"/>
            <a:ext cx="60008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Релаксация</a:t>
            </a: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C:\Users\user\Desktop\ВСЕ ТУТ\Новая папка\DSCN3380.JPG"/>
          <p:cNvPicPr/>
          <p:nvPr/>
        </p:nvPicPr>
        <p:blipFill>
          <a:blip r:embed="rId1"/>
          <a:stretch/>
        </p:blipFill>
        <p:spPr>
          <a:xfrm>
            <a:off x="996840" y="1357200"/>
            <a:ext cx="7218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Гимнастика бодрящая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акаливание</a:t>
            </a: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C:\Users\user\Desktop\Новая папка (2)\DSCN3863.JPG"/>
          <p:cNvPicPr/>
          <p:nvPr/>
        </p:nvPicPr>
        <p:blipFill>
          <a:blip r:embed="rId1"/>
          <a:stretch/>
        </p:blipFill>
        <p:spPr>
          <a:xfrm>
            <a:off x="611280" y="1557360"/>
            <a:ext cx="4224240" cy="4753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94920" y="5157360"/>
            <a:ext cx="79218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C:\Users\Пользователь\Desktop\2015\DSCN4574.JPG"/>
          <p:cNvPicPr/>
          <p:nvPr/>
        </p:nvPicPr>
        <p:blipFill>
          <a:blip r:embed="rId2"/>
          <a:stretch/>
        </p:blipFill>
        <p:spPr>
          <a:xfrm>
            <a:off x="5000760" y="1500120"/>
            <a:ext cx="3571920" cy="235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Users\Пользователь\Desktop\2015\DSCN4573.JPG"/>
          <p:cNvPicPr/>
          <p:nvPr/>
        </p:nvPicPr>
        <p:blipFill>
          <a:blip r:embed="rId3"/>
          <a:stretch/>
        </p:blipFill>
        <p:spPr>
          <a:xfrm>
            <a:off x="5000760" y="3857760"/>
            <a:ext cx="357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Ритмопластика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4857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От гостей скрывать не будем, Танцевать мы очень любим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D:\Новая папка\фото садик\DSCN1800.JPG"/>
          <p:cNvPicPr/>
          <p:nvPr/>
        </p:nvPicPr>
        <p:blipFill>
          <a:blip r:embed="rId1"/>
          <a:stretch/>
        </p:blipFill>
        <p:spPr>
          <a:xfrm>
            <a:off x="1928880" y="1143000"/>
            <a:ext cx="53578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Гимнастика дыхательная</a:t>
            </a: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C:\Users\user\Desktop\Новая папка (2)\DSCN3388.JPG"/>
          <p:cNvPicPr/>
          <p:nvPr/>
        </p:nvPicPr>
        <p:blipFill>
          <a:blip r:embed="rId1"/>
          <a:stretch/>
        </p:blipFill>
        <p:spPr>
          <a:xfrm>
            <a:off x="571680" y="1143000"/>
            <a:ext cx="3562200" cy="267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Users\user\Desktop\Новая папка (2)\DSCN3954.JPG"/>
          <p:cNvPicPr/>
          <p:nvPr/>
        </p:nvPicPr>
        <p:blipFill>
          <a:blip r:embed="rId2"/>
          <a:stretch/>
        </p:blipFill>
        <p:spPr>
          <a:xfrm>
            <a:off x="4929120" y="1143000"/>
            <a:ext cx="3481560" cy="261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Users\user\Desktop\Новая папка (2)\DSCN3951.JPG"/>
          <p:cNvPicPr/>
          <p:nvPr/>
        </p:nvPicPr>
        <p:blipFill>
          <a:blip r:embed="rId3"/>
          <a:stretch/>
        </p:blipFill>
        <p:spPr>
          <a:xfrm>
            <a:off x="2643120" y="3929040"/>
            <a:ext cx="4753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Arial Black"/>
              </a:rPr>
              <a:t>Гимнастика для глаз</a:t>
            </a: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92000" y="2204640"/>
            <a:ext cx="546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DSC01142"/>
          <p:cNvPicPr/>
          <p:nvPr/>
        </p:nvPicPr>
        <p:blipFill>
          <a:blip r:embed="rId1"/>
          <a:stretch/>
        </p:blipFill>
        <p:spPr>
          <a:xfrm>
            <a:off x="1379520" y="1754280"/>
            <a:ext cx="6216840" cy="4665600"/>
          </a:xfrm>
          <a:prstGeom prst="rect">
            <a:avLst/>
          </a:prstGeom>
          <a:ln w="13032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«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Забота о здоровье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 — 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 Black"/>
              </a:rPr>
              <a:t>В. А. Сухомлински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 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физических дефектов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(Всемирная организация здравоохранения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2800"/>
          </a:xfrm>
          <a:prstGeom prst="rect">
            <a:avLst/>
          </a:prstGeom>
          <a:noFill/>
          <a:ln w="0">
            <a:noFill/>
          </a:ln>
        </p:spPr>
        <p:txBody>
          <a:bodyPr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сберегающая технология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 - 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Здоровьесберегающие образовательные 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технологии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технологии обеспечения гигиенически оптимальных условий проведения воспитательно-образовательного процесс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технологии правильной организации воспитательно-образовательного процесс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Arial"/>
              </a:rPr>
              <a:t>психолого-педагогические технологи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 Black"/>
              </a:rPr>
              <a:t>Задачи здоровьесбережения</a:t>
            </a:r>
            <a:r>
              <a:rPr b="1" i="1" lang="ru-RU" sz="36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создание адекватных условий для развития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 обучения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 оздоровления дете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Arial Black"/>
              </a:rPr>
              <a:t>создание положительного эмоционального настроя и снятие психоэмоционального напряж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8920" y="475920"/>
            <a:ext cx="76341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Формы организации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сберегающей работы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5796000" y="1700280"/>
            <a:ext cx="15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50920" y="213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47456002"/>
          <p:cNvPicPr/>
          <p:nvPr/>
        </p:nvPicPr>
        <p:blipFill>
          <a:blip r:embed="rId1"/>
          <a:stretch/>
        </p:blipFill>
        <p:spPr>
          <a:xfrm>
            <a:off x="1042920" y="2205000"/>
            <a:ext cx="7489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Утренняя гимнастик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C:\Users\Пользователь\Desktop\галка к аттестации\PA290343.JPG"/>
          <p:cNvPicPr/>
          <p:nvPr/>
        </p:nvPicPr>
        <p:blipFill>
          <a:blip r:embed="rId1"/>
          <a:stretch/>
        </p:blipFill>
        <p:spPr>
          <a:xfrm>
            <a:off x="1785960" y="1643040"/>
            <a:ext cx="55720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Физкультурное занятие</a:t>
            </a:r>
            <a:br>
              <a:rPr sz="40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:\Users\user\Desktop\ВСЕ ТУТ\Новая папка\DSCN0035.JPG"/>
          <p:cNvPicPr/>
          <p:nvPr/>
        </p:nvPicPr>
        <p:blipFill>
          <a:blip r:embed="rId1"/>
          <a:stretch/>
        </p:blipFill>
        <p:spPr>
          <a:xfrm>
            <a:off x="755640" y="1125360"/>
            <a:ext cx="3193920" cy="239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user\Desktop\Новая папка (2)\DSCN3738.JPG"/>
          <p:cNvPicPr/>
          <p:nvPr/>
        </p:nvPicPr>
        <p:blipFill>
          <a:blip r:embed="rId2"/>
          <a:stretch/>
        </p:blipFill>
        <p:spPr>
          <a:xfrm>
            <a:off x="5651640" y="1052640"/>
            <a:ext cx="3241440" cy="23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Пользователь\Desktop\сад2014\PA290358.JPG"/>
          <p:cNvPicPr/>
          <p:nvPr/>
        </p:nvPicPr>
        <p:blipFill>
          <a:blip r:embed="rId3"/>
          <a:stretch/>
        </p:blipFill>
        <p:spPr>
          <a:xfrm>
            <a:off x="2714760" y="3643200"/>
            <a:ext cx="407196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Екатерина</cp:lastModifiedBy>
  <dcterms:modified xsi:type="dcterms:W3CDTF">2017-11-08T16:06:43Z</dcterms:modified>
  <cp:revision>68</cp:revision>
  <dc:subject/>
  <dc:title>Your Title Here…</dc:title>
</cp:coreProperties>
</file>