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B707-D251-41F7-985F-739D19CC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C30-FF3E-4544-A7BC-C6CECE27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EA4-BE58-4434-AD4D-9D62E794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FA8-51EC-4F96-8662-F9344026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7321-0BC6-4EA7-8BE6-BC879C9A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FDC-5C49-4A4C-9640-EADEE1B8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50A-8074-431E-9766-C8E7C9A7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85A-74C6-49AC-83F7-27D50482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A3E9-2425-40DA-97A2-C2702E89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416A-54C5-4D00-92A3-0E940507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FE22-EB8D-4CC5-9209-C26CCA1D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C57-E191-41FF-8EE8-4F174262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4163-A3C9-43A1-B1A6-4F469B7468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2060640"/>
            <a:ext cx="774072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Palatino Linotype"/>
                <a:ea typeface="Arial"/>
              </a:rPr>
              <a:t>Использование разноуровневых заданий и приемов и способов эмоционального стимулирования для реализации педагогической поддержки на уроках иностранного язык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4076280"/>
            <a:ext cx="640080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Авторы: Соловьева С.В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Федулова Н.А.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учителя английского языка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ГОУ  ЯО «Центр помощи детям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Ярославль, 202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3 уров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835280" y="1413000"/>
            <a:ext cx="6851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вышенн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tences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priate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акончите предложения, используя подходящие по смыслу слова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ng is rather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gging is very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new countries did the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see a nice river in thi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down what you can do and see travelling by car, by bike, by train, by plane, on foot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ишите, что вы можете делать и увидеть, путешествуя на машине, на велосипеде, поездом, самолетом или пешком…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применение таких заданий позволит ученикам впоследствии самостоятельно решать, какие умения им необходимы в типовых учебных ситуациях, как осуществлять перенос знаний в новые усло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ация специфического общения на уроках иностранного я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835280" y="1773000"/>
            <a:ext cx="685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з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колы - снижение у учащихся мотивации к обучению, поэтому тема ее сохранения и повышения необычайно актуаль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 вытекает очень важна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педагога – не только преподнести учебный материал, но и мотивировать учащихся на его качественное восприятие и усво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поддержка, оказываемая педагогом, является неотъемлемой частью, влияющей на мотивацию ученика, его интерес к уче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й настрой у учащихся – это своеобразная внутренняя вер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 меня получится», «я смогу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именно учитель является источником положительных эмоц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63280" y="692280"/>
            <a:ext cx="6851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ства реализации педагогической поддерж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6328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вал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функция похвалы – передача искренней веры учителя в возможности учащегося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алить можно за старательность, за отлично выполненно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на уроке английского языка, такими словами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Beautiful work!», «You tried hard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алить следует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, а не лич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шительные и боязливы учащие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уратные и ответственные учащие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ренные в себе уче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6227640" y="3500280"/>
            <a:ext cx="252108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are on the mar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’ll make i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трелка вправо 6"/>
          <p:cNvSpPr/>
          <p:nvPr/>
        </p:nvSpPr>
        <p:spPr>
          <a:xfrm>
            <a:off x="5796000" y="3724200"/>
            <a:ext cx="377640" cy="35244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7"/>
          <p:cNvSpPr/>
          <p:nvPr/>
        </p:nvSpPr>
        <p:spPr>
          <a:xfrm>
            <a:off x="6227640" y="4365720"/>
            <a:ext cx="2521080" cy="431640"/>
          </a:xfrm>
          <a:prstGeom prst="rect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Super work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трелка вправо 9"/>
          <p:cNvSpPr/>
          <p:nvPr/>
        </p:nvSpPr>
        <p:spPr>
          <a:xfrm>
            <a:off x="5797440" y="4478400"/>
            <a:ext cx="3589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0"/>
          <p:cNvSpPr/>
          <p:nvPr/>
        </p:nvSpPr>
        <p:spPr>
          <a:xfrm>
            <a:off x="6227640" y="4941720"/>
            <a:ext cx="2521080" cy="503280"/>
          </a:xfrm>
          <a:prstGeom prst="rect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I'm proud of you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трелка вправо 12"/>
          <p:cNvSpPr/>
          <p:nvPr/>
        </p:nvSpPr>
        <p:spPr>
          <a:xfrm>
            <a:off x="5796000" y="5084640"/>
            <a:ext cx="379440" cy="360360"/>
          </a:xfrm>
          <a:prstGeom prst="rightArrow">
            <a:avLst>
              <a:gd name="adj1" fmla="val 50000"/>
              <a:gd name="adj2" fmla="val 52013"/>
            </a:avLst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63640" y="692280"/>
            <a:ext cx="712944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туация успех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63280" y="1413000"/>
            <a:ext cx="6923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туаций успех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ах английского языка – это значит развитие познавательного интереса в области изучения иностранного языка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ситуации успеха в том, чтобы на деле воплощать веру в возможность решения тех задач, которые ставятся на уро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«ты можешь выразить это по-английски (даже если не помнишь грамматику и лексику)» – один из основополагающих принципов ситуации успеха на уроках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еживании ситуации успеха особенно нуждаются учащиеся, испытывающие определенные затруднения в учении. В связи с этим необходимо подбирать такие задания,  с  которыми  учащиеся  этой категории могли бы справиться без особых затруднений и только потом переходить к более сложным упражнениям. Здесь как раз подойдет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разноуровневых зад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63640" y="620640"/>
            <a:ext cx="7129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я для создания ситуаций успех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907640" y="1773360"/>
            <a:ext cx="6923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вида «brainstorm». Сюда могут входить следующие зад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новых сл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из названий двух предметов, получите новое слово, например, book+shelf (bookshel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image4.png" descr=""/>
          <p:cNvPicPr/>
          <p:nvPr/>
        </p:nvPicPr>
        <p:blipFill>
          <a:blip r:embed="rId1"/>
          <a:stretch/>
        </p:blipFill>
        <p:spPr>
          <a:xfrm>
            <a:off x="3851280" y="3645000"/>
            <a:ext cx="2881440" cy="19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присоедините к  букве название предмета, чтобы получилось новое слово: t + hat (Th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92000" y="3141720"/>
            <a:ext cx="699444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исключите зачеркнутую букву, изображенную над рисунком и замените её на другую букву, изображенную рядом с рисунком: bag - b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image6.png" descr=""/>
          <p:cNvPicPr/>
          <p:nvPr/>
        </p:nvPicPr>
        <p:blipFill>
          <a:blip r:embed="rId1"/>
          <a:stretch/>
        </p:blipFill>
        <p:spPr>
          <a:xfrm>
            <a:off x="3564000" y="4149720"/>
            <a:ext cx="2614680" cy="1714680"/>
          </a:xfrm>
          <a:prstGeom prst="rect">
            <a:avLst/>
          </a:prstGeom>
          <a:ln w="0">
            <a:noFill/>
          </a:ln>
        </p:spPr>
      </p:pic>
      <p:pic>
        <p:nvPicPr>
          <p:cNvPr id="86" name="image7.png" descr=""/>
          <p:cNvPicPr/>
          <p:nvPr/>
        </p:nvPicPr>
        <p:blipFill>
          <a:blip r:embed="rId2"/>
          <a:stretch/>
        </p:blipFill>
        <p:spPr>
          <a:xfrm>
            <a:off x="3132000" y="1413000"/>
            <a:ext cx="3638520" cy="1257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836280"/>
            <a:ext cx="7524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включите помещенную наверху букву так, чтобы получилось новое слово: tree + h (three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5.png" descr=""/>
          <p:cNvPicPr/>
          <p:nvPr/>
        </p:nvPicPr>
        <p:blipFill>
          <a:blip r:embed="rId1"/>
          <a:stretch/>
        </p:blipFill>
        <p:spPr>
          <a:xfrm>
            <a:off x="3780000" y="2565360"/>
            <a:ext cx="2808000" cy="237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35280" y="1052640"/>
            <a:ext cx="7129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Прочитав, последовательно буквы на каждой ступеньке, вы узнаете новую английскую пословицу. Стрелка показывает, от какой буквы следует начинать.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dog has his day – Будет и на нашей улице праздник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8.png" descr=""/>
          <p:cNvPicPr/>
          <p:nvPr/>
        </p:nvPicPr>
        <p:blipFill>
          <a:blip r:embed="rId1"/>
          <a:stretch/>
        </p:blipFill>
        <p:spPr>
          <a:xfrm>
            <a:off x="3635280" y="2997360"/>
            <a:ext cx="2401920" cy="254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5280" y="620280"/>
            <a:ext cx="6851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63280" y="1268280"/>
            <a:ext cx="7201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чтобы задать учащимся положительный настрой учитель может использовать улыбку во время приветствия, дружелюбно заданные вопросы, спокойные замечания, без окр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й настрой  =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й настрой  =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й настрой = вседозволен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  учитель сможет создать условия для реализации возможностей каждого учащего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овершенствование знаний учащихся ,повышение уровня знаний каждого  в отдельности, создание предпосылок для развития интересов, благотворно влияет на учебную мотивацию и отношение к учеб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о отражает  помощь растущему  человеку обретении себя, в работе с самим собой, т.е. в самоопределении и самореализации, «выращивание» субъектной позиции ребен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7" descr="C:\Users\locadm\Desktop\depositphotos_29901367-stock-photo-happy-yellow-question-mark.jpg"/>
          <p:cNvPicPr/>
          <p:nvPr/>
        </p:nvPicPr>
        <p:blipFill>
          <a:blip r:embed="rId1"/>
          <a:stretch/>
        </p:blipFill>
        <p:spPr>
          <a:xfrm>
            <a:off x="4572000" y="249228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8" descr="C:\Users\locadm\Desktop\images (2).jpg"/>
          <p:cNvPicPr/>
          <p:nvPr/>
        </p:nvPicPr>
        <p:blipFill>
          <a:blip r:embed="rId2"/>
          <a:stretch/>
        </p:blipFill>
        <p:spPr>
          <a:xfrm>
            <a:off x="4572000" y="2133720"/>
            <a:ext cx="431640" cy="3585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5"/>
          <p:cNvSpPr/>
          <p:nvPr/>
        </p:nvSpPr>
        <p:spPr>
          <a:xfrm flipV="1">
            <a:off x="4572000" y="2996640"/>
            <a:ext cx="1655640" cy="45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17680" y="691920"/>
            <a:ext cx="77263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63280" y="1484280"/>
            <a:ext cx="705636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ое общество становится более открытым к общению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кратно повысилась потребность в изучении иностра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а, а это приводит к изменениям в его преподаван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включаются в изучение иностранного языка по-разном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х условиях актуальной является проблема формирования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ной позиции учен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ная позиц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ика характеризуется стремлением 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му познанию и проявлению самого себ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инамике — это показатель его развития как личности,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сти; показатель самосознания, рефлексивност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и, активности и ответствен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ктивные ссылки и использованная 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835280" y="1197000"/>
            <a:ext cx="7129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молов А.Г. Формирование УУД в основной школе: от действия к мысли.   Система   заданий:  пособие  для учителя / А.Г.  Асмолов, Г.В. Бурменская, И.А. Володарская и др. – М.: Просвещение, 2014.с 15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женова Н.Г. Лингводидактическая роль похвалы в формировании духовно-нравственной культуры учащихся, изучающих французский язык // Вестник ТГПУ. 2015. № 4(11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олетова М.З., Трубанева Н.Н. Английский с удовольствием / Enjoy English: учебник для 8 класса общеобразовательных учреждений – 2 издание, исправленное – Обнинск: Титул, 201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6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зеев В.В. Методы и организационные формы обучения. – М.: Народное образование, 201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ева М.А. К вопросу о соотношении понятий «педагогическое сопровождение» и «педагогическая поддержка» // Вестник Шадринского государственного педагогического университета. 2013. № 3(19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43-4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ева Н.А. Разноуровневое и дифференцированное обучение как фактор повышения эффективности образовательного процесса в СПО [Текст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Педагогическое мастерство: материалы VIII Международной научной конференции в г. Москва июнь 2016. М.: Буки-Веди. 2016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35-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инич Г.Г. Английский язык. Разноуровневые задания. 6 класс./ Сост. Г.Г. Кулинич. М.: ВАКО. 2014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  – (Дидактические материа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йлова Н.Н., Касицына Н.В. Педагогическая поддержка: гарантия права на риск // На путях к новой школе. 2016. № 2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URL: https://elibrary.ru/download/elibrary_27325076_5416196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L: http://shgpi.edu.ru/files/nauka/vestnik/2013/2013-3-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youtube.com/watch?v=r0uMHAliqjo...feature=re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youtube.com/watch?v=trFfwCzuCnM...feature=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youtube.c...h?v=UDmCSvqhho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15760" y="620640"/>
            <a:ext cx="71038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Цели и За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ения иностранному языку согласно стандарту возможно осуществить использу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- ориентированные технол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и обучения, создающие условия для обеспечения собственной учебной деятельности обучающихся, учёта и развития их индивидуальных способ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ы оказать учащемуся помощь как субъекту самосознания, самодеятельности, а педагогической деятельности придать характер сотрудничества, в котором доминирует равный, взаимовыгодный обмен личностными смыслами и опытом между учителем и учащимися, то есть оказани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й поддерж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и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63280" y="620640"/>
            <a:ext cx="7201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ическая поддерж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7640" y="1700280"/>
            <a:ext cx="692316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уде педагога должны преобладать компетенции творческие,  а в коммуникативном взаимодействии с обучающимися – должен преобладать принцип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убъект-субъектных» отношений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главными действующими лицами в равной степени являются и преподаватель, и обучающийся. Это является одним из наиважнейших элементов педагогической поддерж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70578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ическая поддерж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834920" y="1268280"/>
            <a:ext cx="6708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английскому языку, как и любому другому предмету, не обходится без использования педагогической поддерж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18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Приё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трелка вниз 7"/>
          <p:cNvSpPr/>
          <p:nvPr/>
        </p:nvSpPr>
        <p:spPr>
          <a:xfrm rot="18867000">
            <a:off x="6564960" y="2324520"/>
            <a:ext cx="117720" cy="1398600"/>
          </a:xfrm>
          <a:prstGeom prst="downArrow">
            <a:avLst>
              <a:gd name="adj1" fmla="val 50000"/>
              <a:gd name="adj2" fmla="val 49888"/>
            </a:avLst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трелка вниз 9"/>
          <p:cNvSpPr/>
          <p:nvPr/>
        </p:nvSpPr>
        <p:spPr>
          <a:xfrm>
            <a:off x="5292720" y="2565360"/>
            <a:ext cx="142920" cy="136836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Овал 10"/>
          <p:cNvSpPr/>
          <p:nvPr/>
        </p:nvSpPr>
        <p:spPr>
          <a:xfrm>
            <a:off x="6372360" y="3645000"/>
            <a:ext cx="2087280" cy="105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ров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Овал 13"/>
          <p:cNvSpPr/>
          <p:nvPr/>
        </p:nvSpPr>
        <p:spPr>
          <a:xfrm>
            <a:off x="3851280" y="4365720"/>
            <a:ext cx="2808360" cy="107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кульмину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низ 14"/>
          <p:cNvSpPr/>
          <p:nvPr/>
        </p:nvSpPr>
        <p:spPr>
          <a:xfrm rot="2098800">
            <a:off x="3943080" y="2405160"/>
            <a:ext cx="135000" cy="139680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вал 15"/>
          <p:cNvSpPr/>
          <p:nvPr/>
        </p:nvSpPr>
        <p:spPr>
          <a:xfrm>
            <a:off x="1908000" y="3716280"/>
            <a:ext cx="208764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ну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лакс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979280" y="1844280"/>
            <a:ext cx="6707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ютя два педагогических условия  реализации педагогической поддержки на уроках иностранного язы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строение учебного процесса с использованием разноуровневых зад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рганизация специфического общения на уроках иностранного язы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35280" y="476280"/>
            <a:ext cx="7129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 реализации педагогической поддерж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вни слож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835280" y="1268280"/>
            <a:ext cx="6851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ноуровневые задания делятся на три группы, соответствующ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ем уровням слож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что обусловлен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ыми этапам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воения зна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ый уровен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базовый (начальный, уровень – узнавание). На данном этапе происходит усвоение и осознание готовой информации, запоминание, воспроизвед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торой уровен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средний (уровень – дифференциация). На данном этапе ученики применяют усвоенные знания в знакомой ситуации по образц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етий уровен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высокий (творческий). Данный этап предполагает творческое использование знаний, без готового этал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70675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я 1 уров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63280" y="1341000"/>
            <a:ext cx="738036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дания по категории «Лексика» (базовы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.Bring the words in correspondence with the right translation.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Write down the pairs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Установите соответствие между словами и их переводом. Запишите получившиеся пары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ycling jogging explo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valley hobb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еч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и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зда на велосипед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 трусц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the chain into five expressions and word combinations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them down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зделите цепочку на пять выражений и словосочетаний. Запишите и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nchingtheinternationalexplorers’clubmeetingnewfriendsontheonehandonth eotherhandroundtheworldliketravell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я 2 уров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92000" y="1268280"/>
            <a:ext cx="745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he appropriate description and write down the senten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берите подходящее по смыслу описание 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предложе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ng trips are (spicy / wealthy / healthy)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gging is (truthful / useful / wonderful)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ration is visiting different (wonders / countries / hundreds)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valley there were a lot of (trees / seas / with)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he appropriate words. Write down the sentences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берите подходящие по смыслу слова. Запишите получившиеся предложе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lling by car you can (hope / drop / stop)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any mo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lling by bike you depend on the (whether / weather / together)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lling by train you can (sweep / sleep / clip)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7:39:51Z</dcterms:created>
  <dc:creator>Катенок</dc:creator>
  <dc:description/>
  <dc:language>en-US</dc:language>
  <cp:lastModifiedBy>locadm</cp:lastModifiedBy>
  <dcterms:modified xsi:type="dcterms:W3CDTF">2020-11-26T07:27:36Z</dcterms:modified>
  <cp:revision>182</cp:revision>
  <dc:subject/>
  <dc:title>Презентация PowerPoint</dc:title>
</cp:coreProperties>
</file>