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4D4-8EFD-41F3-BF53-7ED4FAFB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63F-579B-4E0A-A0D9-5CBA4167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A5C-DC26-4A06-A35F-9F490037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5D0-DA47-489D-A824-73EC5E48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D6D6-B932-4679-BB29-F11FD6C0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437B-72A8-4E55-AD92-8CFF61FA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9D88-A460-4E48-9088-DB66CDE3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5AD5-4F39-41DE-BC3A-52080478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DF1C-23EB-4B9C-B206-B4C04495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4515-3646-434F-B72D-BE1D5AB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CB66-5FF5-4823-B3BA-C86DB963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D73-32CA-4D71-9222-D101CA05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03BE-7D0D-4E24-9B7C-6F1FB556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4BF9-32D3-4443-9EE7-E3893A3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F442-027A-405C-B6C4-330DEF61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FAEF-0E7D-4F38-967E-79D88524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0EF-B1E3-4546-8C9A-05EA05FC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23B-6A62-48F6-82D2-D8B30B8C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FB9-5C2F-4FD1-9C15-FCD85EC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10D-6DE4-4EEE-B44D-4519B7EB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ADF-9FD0-4E36-A2C4-1B5AA85E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E97-1CA1-481E-864C-E081FD76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B63-EC41-4F2E-BD56-55EF3ED3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76A-E865-4813-AAE1-C7067D3B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46BA-CFFB-4085-82ED-713C1C1675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870-4B1A-41C3-B0E7-1E0CA62675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tylemyhouse.ru/?p=2041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914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1283942442_impressionism-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2057400" y="4191120"/>
            <a:ext cx="6705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мпрессионизм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</a:t>
            </a: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</a:t>
            </a: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кусстве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33cccc"/>
                </a:solidFill>
                <a:uFillTx/>
                <a:latin typeface="Arial"/>
              </a:rPr>
              <a:t>Стили художников импрессионистов</a:t>
            </a:r>
            <a:endParaRPr b="0" lang="en-US" sz="3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4064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cc"/>
                </a:solidFill>
                <a:latin typeface="Arial"/>
              </a:rPr>
              <a:t>Пространство пейзаж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cc"/>
                </a:solidFill>
                <a:latin typeface="Arial"/>
              </a:rPr>
              <a:t>Легкие прозрачные т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cc"/>
                </a:solidFill>
                <a:latin typeface="Arial"/>
              </a:rPr>
              <a:t>Свежесть палит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cc"/>
                </a:solidFill>
                <a:latin typeface="Arial"/>
              </a:rPr>
              <a:t>Иллюзия све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cc"/>
                </a:solidFill>
                <a:latin typeface="Arial"/>
              </a:rPr>
              <a:t>Умиротворенность настро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Arial"/>
              </a:rPr>
              <a:t>1886 год великие имена художников импрессионистов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5638680"/>
            <a:ext cx="3124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Monotype Corsiva"/>
              </a:rPr>
              <a:t>Альфред Сис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Monotype Corsiva"/>
              </a:rPr>
              <a:t>  </a:t>
            </a:r>
            <a:r>
              <a:rPr b="0" i="1" lang="ru-RU" sz="2800" spc="-1" strike="noStrike">
                <a:solidFill>
                  <a:srgbClr val="33cccc"/>
                </a:solidFill>
                <a:latin typeface="Monotype Corsiva"/>
              </a:rPr>
              <a:t>(1839 – 189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Альфред Сислей"/>
          <p:cNvPicPr/>
          <p:nvPr/>
        </p:nvPicPr>
        <p:blipFill>
          <a:blip r:embed="rId1"/>
          <a:stretch/>
        </p:blipFill>
        <p:spPr>
          <a:xfrm>
            <a:off x="304920" y="1371600"/>
            <a:ext cx="3200400" cy="403848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4" name="Picture 6" descr="фото Камиля Писсаро"/>
          <p:cNvPicPr/>
          <p:nvPr/>
        </p:nvPicPr>
        <p:blipFill>
          <a:blip r:embed="rId2"/>
          <a:stretch/>
        </p:blipFill>
        <p:spPr>
          <a:xfrm>
            <a:off x="5257800" y="1371600"/>
            <a:ext cx="3276720" cy="403848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sp>
        <p:nvSpPr>
          <p:cNvPr id="115" name="Прямоугольник 7"/>
          <p:cNvSpPr/>
          <p:nvPr/>
        </p:nvSpPr>
        <p:spPr>
          <a:xfrm>
            <a:off x="5334120" y="5562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Monotype Corsiva"/>
              </a:rPr>
              <a:t>Камиль Писса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Monotype Corsiva"/>
              </a:rPr>
              <a:t>(1830 – 190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05160" y="837720"/>
            <a:ext cx="2835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Monotype Corsiva"/>
              </a:rPr>
              <a:t>Клод Моне</a:t>
            </a:r>
            <a:br>
              <a:rPr sz="2600"/>
            </a:br>
            <a:r>
              <a:rPr b="0" i="1" lang="ru-RU" sz="2600" spc="-1" strike="noStrike">
                <a:solidFill>
                  <a:srgbClr val="33cccc"/>
                </a:solidFill>
                <a:latin typeface="Monotype Corsiva"/>
              </a:rPr>
              <a:t>(1840 – 1926)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5197320"/>
            <a:ext cx="37177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Monotype Corsiva"/>
              </a:rPr>
              <a:t>Э. Ма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Monotype Corsiva"/>
              </a:rPr>
              <a:t>(1832 – 188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фото Э"/>
          <p:cNvPicPr/>
          <p:nvPr/>
        </p:nvPicPr>
        <p:blipFill>
          <a:blip r:embed="rId1"/>
          <a:stretch/>
        </p:blipFill>
        <p:spPr>
          <a:xfrm>
            <a:off x="304920" y="533520"/>
            <a:ext cx="4114800" cy="44193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9" name="Picture 5" descr="фото К"/>
          <p:cNvPicPr/>
          <p:nvPr/>
        </p:nvPicPr>
        <p:blipFill>
          <a:blip r:embed="rId2"/>
          <a:stretch/>
        </p:blipFill>
        <p:spPr>
          <a:xfrm>
            <a:off x="4724280" y="1981080"/>
            <a:ext cx="3962520" cy="464832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роя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8"/>
          <p:cNvSpPr txBox="1"/>
          <p:nvPr/>
        </p:nvSpPr>
        <p:spPr>
          <a:xfrm>
            <a:off x="228600" y="380880"/>
            <a:ext cx="54435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Импрессионизм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 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 музык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b7e7ff"/>
                </a:solidFill>
                <a:latin typeface="Monotype Corsiva"/>
              </a:rPr>
              <a:t>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3300"/>
                </a:solidFill>
                <a:uFillTx/>
                <a:latin typeface="Monotype Corsiva"/>
              </a:rPr>
              <a:t>Тембр</a:t>
            </a: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 – это крас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звучания музыкальных  инстр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музыкальные инструменты"/>
          <p:cNvPicPr/>
          <p:nvPr/>
        </p:nvPicPr>
        <p:blipFill>
          <a:blip r:embed="rId1"/>
          <a:stretch/>
        </p:blipFill>
        <p:spPr>
          <a:xfrm>
            <a:off x="4800600" y="380880"/>
            <a:ext cx="3962520" cy="5943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0200" y="56386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Monotype Corsiva"/>
              </a:rPr>
              <a:t>Клод Дебюс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33cccc"/>
                </a:solidFill>
                <a:latin typeface="Monotype Corsiva"/>
              </a:rPr>
              <a:t>(1862 – 19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фото Клод Дебюсси"/>
          <p:cNvPicPr/>
          <p:nvPr/>
        </p:nvPicPr>
        <p:blipFill>
          <a:blip r:embed="rId1"/>
          <a:stretch/>
        </p:blipFill>
        <p:spPr>
          <a:xfrm>
            <a:off x="2514600" y="304920"/>
            <a:ext cx="4038480" cy="50292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426708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b7e7ff"/>
              </a:solidFill>
              <a:latin typeface="Monotype Corsiv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3300"/>
                </a:solidFill>
                <a:uFillTx/>
                <a:latin typeface="Monotype Corsiva"/>
              </a:rPr>
              <a:t>Ноктюрн </a:t>
            </a:r>
            <a:r>
              <a:rPr b="0" lang="ru-RU" sz="4000" spc="-1" strike="noStrike">
                <a:solidFill>
                  <a:srgbClr val="ff3300"/>
                </a:solidFill>
                <a:latin typeface="Monotype Corsiva"/>
              </a:rPr>
              <a:t>– это триптих, т.е. пьеса, состоящая из трёх произведений: «Облака», « Празднества», Сирены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457200" y="3886200"/>
            <a:ext cx="8305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 </a:t>
            </a: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Клод Дебюсси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     </a:t>
            </a: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" Облака"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фото Облака к музыке Дебюсс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cc"/>
                </a:solidFill>
                <a:latin typeface="Arial"/>
              </a:rPr>
              <a:t>(А. Сислей «Облака в поле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облака в поле Сисл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6019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(А. Сислей «Облака в саду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облака в саду Сислей"/>
          <p:cNvPicPr/>
          <p:nvPr/>
        </p:nvPicPr>
        <p:blipFill>
          <a:blip r:embed="rId1"/>
          <a:stretch/>
        </p:blipFill>
        <p:spPr>
          <a:xfrm>
            <a:off x="0" y="0"/>
            <a:ext cx="9144000" cy="582948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Импрессионизм -</a:t>
            </a:r>
            <a:r>
              <a:rPr b="0" i="1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44480" y="2494080"/>
            <a:ext cx="719784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cccc"/>
                </a:solidFill>
                <a:latin typeface="Arial"/>
              </a:rPr>
              <a:t>это направление в      искусстве, возникшее во второй половине </a:t>
            </a:r>
            <a:r>
              <a:rPr b="0" i="1" lang="en-US" sz="3200" spc="-1" strike="noStrike">
                <a:solidFill>
                  <a:srgbClr val="33cccc"/>
                </a:solidFill>
                <a:latin typeface="Arial"/>
              </a:rPr>
              <a:t>XIX </a:t>
            </a:r>
            <a:r>
              <a:rPr b="0" i="1" lang="ru-RU" sz="3200" spc="-1" strike="noStrike">
                <a:solidFill>
                  <a:srgbClr val="33cccc"/>
                </a:solidFill>
                <a:latin typeface="Arial"/>
              </a:rPr>
              <a:t>века во Фран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0" y="5562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Monotype Corsiva"/>
              </a:rPr>
              <a:t>Морис Рав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Monotype Corsiva"/>
              </a:rPr>
              <a:t>(1875 – 193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фото Морис Равель"/>
          <p:cNvPicPr/>
          <p:nvPr/>
        </p:nvPicPr>
        <p:blipFill>
          <a:blip r:embed="rId1"/>
          <a:stretch/>
        </p:blipFill>
        <p:spPr>
          <a:xfrm>
            <a:off x="1143000" y="533520"/>
            <a:ext cx="6400800" cy="495288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2 игра воды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800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sp>
        <p:nvSpPr>
          <p:cNvPr id="144" name="WordArt 10"/>
          <p:cNvSpPr txBox="1"/>
          <p:nvPr/>
        </p:nvSpPr>
        <p:spPr>
          <a:xfrm>
            <a:off x="0" y="152280"/>
            <a:ext cx="7924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 </a:t>
            </a: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Морис Равель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        </a:t>
            </a: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" Игра воды"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33cccc"/>
                </a:solidFill>
                <a:latin typeface="Arial"/>
              </a:rPr>
              <a:t>как объяснить выбор музыкального инструмента композитором для исполнения этого произвед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игра воды"/>
          <p:cNvPicPr/>
          <p:nvPr/>
        </p:nvPicPr>
        <p:blipFill>
          <a:blip r:embed="rId1"/>
          <a:stretch/>
        </p:blipFill>
        <p:spPr>
          <a:xfrm>
            <a:off x="762120" y="228600"/>
            <a:ext cx="7572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писатели чистой поэзии обложка"/>
          <p:cNvPicPr/>
          <p:nvPr/>
        </p:nvPicPr>
        <p:blipFill>
          <a:blip r:embed="rId1"/>
          <a:stretch/>
        </p:blipFill>
        <p:spPr>
          <a:xfrm>
            <a:off x="2057400" y="457200"/>
            <a:ext cx="5181480" cy="64008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49" name="WordArt 8"/>
          <p:cNvSpPr txBox="1"/>
          <p:nvPr/>
        </p:nvSpPr>
        <p:spPr>
          <a:xfrm>
            <a:off x="2590920" y="4724280"/>
            <a:ext cx="4495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эты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чистого искусства"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4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267080"/>
            <a:ext cx="228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Ф. Тютчев</a:t>
            </a:r>
            <a:br>
              <a:rPr sz="2400"/>
            </a:b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(1826 – 1901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05320" y="563832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А. Плеще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(1826 – 189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фото Ф"/>
          <p:cNvPicPr/>
          <p:nvPr/>
        </p:nvPicPr>
        <p:blipFill>
          <a:blip r:embed="rId1"/>
          <a:stretch/>
        </p:blipFill>
        <p:spPr>
          <a:xfrm>
            <a:off x="304920" y="228600"/>
            <a:ext cx="3012840" cy="3581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53" name="Picture 5" descr="фото Алексея Плещеева"/>
          <p:cNvPicPr/>
          <p:nvPr/>
        </p:nvPicPr>
        <p:blipFill>
          <a:blip r:embed="rId2"/>
          <a:stretch/>
        </p:blipFill>
        <p:spPr>
          <a:xfrm>
            <a:off x="2971800" y="1447920"/>
            <a:ext cx="3200400" cy="40305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54" name="Picture 6" descr="фото Аполлона Майкова"/>
          <p:cNvPicPr/>
          <p:nvPr/>
        </p:nvPicPr>
        <p:blipFill>
          <a:blip r:embed="rId3"/>
          <a:stretch/>
        </p:blipFill>
        <p:spPr>
          <a:xfrm>
            <a:off x="5715000" y="228600"/>
            <a:ext cx="3133800" cy="38671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55" name="Прямоугольник 8"/>
          <p:cNvSpPr/>
          <p:nvPr/>
        </p:nvSpPr>
        <p:spPr>
          <a:xfrm>
            <a:off x="5943600" y="4572000"/>
            <a:ext cx="2895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А. Май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(1821 – 1897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7" name="Picture 4" descr="стихи о природе"/>
          <p:cNvPicPr/>
          <p:nvPr/>
        </p:nvPicPr>
        <p:blipFill>
          <a:blip r:embed="rId1"/>
          <a:stretch/>
        </p:blipFill>
        <p:spPr>
          <a:xfrm>
            <a:off x="380880" y="304920"/>
            <a:ext cx="1905120" cy="27432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58" name="Picture 5" descr="времена года"/>
          <p:cNvPicPr/>
          <p:nvPr/>
        </p:nvPicPr>
        <p:blipFill>
          <a:blip r:embed="rId2"/>
          <a:stretch/>
        </p:blipFill>
        <p:spPr>
          <a:xfrm>
            <a:off x="1523880" y="3657600"/>
            <a:ext cx="2210040" cy="29336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59" name="Picture 6" descr="2 книги фет, тютчев"/>
          <p:cNvPicPr/>
          <p:nvPr/>
        </p:nvPicPr>
        <p:blipFill>
          <a:blip r:embed="rId3"/>
          <a:stretch/>
        </p:blipFill>
        <p:spPr>
          <a:xfrm>
            <a:off x="3276720" y="304920"/>
            <a:ext cx="2209680" cy="2779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60" name="Picture 7" descr="книги"/>
          <p:cNvPicPr/>
          <p:nvPr/>
        </p:nvPicPr>
        <p:blipFill>
          <a:blip r:embed="rId4"/>
          <a:stretch/>
        </p:blipFill>
        <p:spPr>
          <a:xfrm>
            <a:off x="4800600" y="3657600"/>
            <a:ext cx="2305080" cy="28954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61" name="Picture 8" descr="фет книги"/>
          <p:cNvPicPr/>
          <p:nvPr/>
        </p:nvPicPr>
        <p:blipFill>
          <a:blip r:embed="rId5"/>
          <a:stretch/>
        </p:blipFill>
        <p:spPr>
          <a:xfrm>
            <a:off x="6629400" y="304920"/>
            <a:ext cx="2144880" cy="2666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1066680" y="0"/>
            <a:ext cx="6477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 </a:t>
            </a: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Защита проекто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63" name="Picture 5" descr="защита музыкантов"/>
          <p:cNvPicPr/>
          <p:nvPr/>
        </p:nvPicPr>
        <p:blipFill>
          <a:blip r:embed="rId1"/>
          <a:stretch/>
        </p:blipFill>
        <p:spPr>
          <a:xfrm>
            <a:off x="228600" y="1371600"/>
            <a:ext cx="2874960" cy="2590920"/>
          </a:xfrm>
          <a:prstGeom prst="rect">
            <a:avLst/>
          </a:prstGeom>
          <a:ln w="57240">
            <a:solidFill>
              <a:srgbClr val="0000a4"/>
            </a:solidFill>
            <a:miter/>
          </a:ln>
        </p:spPr>
      </p:pic>
      <p:pic>
        <p:nvPicPr>
          <p:cNvPr id="164" name="Picture 6" descr="писатели проект"/>
          <p:cNvPicPr/>
          <p:nvPr/>
        </p:nvPicPr>
        <p:blipFill>
          <a:blip r:embed="rId2"/>
          <a:stretch/>
        </p:blipFill>
        <p:spPr>
          <a:xfrm>
            <a:off x="3352680" y="1371600"/>
            <a:ext cx="2590920" cy="2590920"/>
          </a:xfrm>
          <a:prstGeom prst="rect">
            <a:avLst/>
          </a:prstGeom>
          <a:ln w="57240">
            <a:solidFill>
              <a:srgbClr val="0000a4"/>
            </a:solidFill>
            <a:miter/>
          </a:ln>
        </p:spPr>
      </p:pic>
      <p:pic>
        <p:nvPicPr>
          <p:cNvPr id="165" name="Picture 7" descr="2 проект море"/>
          <p:cNvPicPr/>
          <p:nvPr/>
        </p:nvPicPr>
        <p:blipFill>
          <a:blip r:embed="rId3"/>
          <a:stretch/>
        </p:blipFill>
        <p:spPr>
          <a:xfrm>
            <a:off x="6172200" y="1371600"/>
            <a:ext cx="2743200" cy="2590920"/>
          </a:xfrm>
          <a:prstGeom prst="rect">
            <a:avLst/>
          </a:prstGeom>
          <a:ln w="57240">
            <a:solidFill>
              <a:srgbClr val="0000a4"/>
            </a:solidFill>
            <a:miter/>
          </a:ln>
        </p:spPr>
      </p:pic>
      <p:sp>
        <p:nvSpPr>
          <p:cNvPr id="166" name="Rectangle 3"/>
          <p:cNvSpPr/>
          <p:nvPr/>
        </p:nvSpPr>
        <p:spPr>
          <a:xfrm>
            <a:off x="304920" y="4191120"/>
            <a:ext cx="8540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Музыканты – импрессионисты  играют своё музыкальное произведе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Поэты «чистого искусства» зачитывают свое стихотворе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Художники – импрессионисты демонстрируют свою картин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1680" y="5409720"/>
            <a:ext cx="8540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Художники – импрессионис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Музыканты – импрессионис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Писатели чистой поэз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защита проектов МОРЕ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495288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sp>
        <p:nvSpPr>
          <p:cNvPr id="169" name="WordArt 5"/>
          <p:cNvSpPr txBox="1"/>
          <p:nvPr/>
        </p:nvSpPr>
        <p:spPr>
          <a:xfrm>
            <a:off x="1523880" y="380880"/>
            <a:ext cx="5562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Тема проекта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                 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 Море"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600"/>
                            </p:stCondLst>
                            <p:childTnLst>
                              <p:par>
                                <p:cTn id="5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600"/>
                            </p:stCondLst>
                            <p:childTnLst>
                              <p:par>
                                <p:cTn id="5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600"/>
                            </p:stCondLst>
                            <p:childTnLst>
                              <p:par>
                                <p:cTn id="5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5559120"/>
            <a:ext cx="854064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- Ребята, вы довольны результатами своей рабо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- Что вы хотите пожелать друг другу исходя из темы нашего ур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релаксация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54864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5790960"/>
            <a:ext cx="8663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b7e7ff"/>
                </a:solidFill>
                <a:uFillTx/>
                <a:latin typeface="Arial"/>
              </a:rPr>
              <a:t>Домашнее задание</a:t>
            </a:r>
            <a:r>
              <a:rPr b="0" i="1" lang="ru-RU" sz="2400" spc="-1" strike="noStrike">
                <a:solidFill>
                  <a:srgbClr val="b7e7ff"/>
                </a:solidFill>
                <a:latin typeface="Arial"/>
              </a:rPr>
              <a:t>: нарисовать рисунок с изображением       облаков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4" name="Picture 6" descr="задание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57150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10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cccc"/>
                </a:solidFill>
                <a:latin typeface="Arial"/>
              </a:rPr>
              <a:t>Импрессиониз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Импрессионизм в художественном искус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Импрессионизм в музы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Импрессионизм в литера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7e7ff"/>
                </a:solidFill>
                <a:latin typeface="Arial"/>
              </a:rPr>
              <a:t>Список использованной литературы и Интернет-ресурсов: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Arial"/>
              </a:rPr>
              <a:t>«История зарубежной музыки» Никитина – М:</a:t>
            </a:r>
            <a:r>
              <a:rPr b="0" lang="en-US" sz="1900" spc="-1" strike="noStrike">
                <a:solidFill>
                  <a:srgbClr val="ffc000"/>
                </a:solidFill>
                <a:latin typeface="Arial"/>
              </a:rPr>
              <a:t>Academia</a:t>
            </a:r>
            <a:r>
              <a:rPr b="0" lang="ru-RU" sz="1900" spc="-1" strike="noStrike">
                <a:solidFill>
                  <a:srgbClr val="ffc000"/>
                </a:solidFill>
                <a:latin typeface="Arial"/>
              </a:rPr>
              <a:t>, 2000 г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Arial"/>
              </a:rPr>
              <a:t>«Искусство» №  </a:t>
            </a:r>
            <a:r>
              <a:rPr b="0" lang="en-US" sz="19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ru-RU" sz="1900" spc="-1" strike="noStrike">
                <a:solidFill>
                  <a:srgbClr val="ffc000"/>
                </a:solidFill>
                <a:latin typeface="Arial"/>
              </a:rPr>
              <a:t>   -  М, 2010г.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http://adaangel.ucoz.ru/forum/38-175-2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http://club.foto.ru/gallery/photos/photo.php?photo_id=10834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stylemyhouse.ru/?p=2041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ttp://www.fotokonkurs.ru/photo/39615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c000"/>
                </a:solidFill>
                <a:uFillTx/>
                <a:latin typeface="Arial"/>
              </a:rPr>
              <a:t>http://www.chaconne.ru/viewitem.php?id=2023983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http://www.toy-world.ru/toy54821.html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ttp://www.labirint.ru/books/122328/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ttp://www.labirint.ru/books/279809/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ttp://naiti.in/br.php?CID=1071185&amp;hgc=201&amp;hgc=301&amp;hgc=341&amp;start=36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ttp://aptekxpyctalka.ucoz.ru/index/0-4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ttp://www.dietaonline.ru/community/post.php?topic_id=7428&amp;page=61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http://www.murr-aion.ru/viewtopic.php?pid=27603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1874 год Франция – организована первая выставка художников импрессионистов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99840" y="5486400"/>
            <a:ext cx="5791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cccc"/>
                </a:solidFill>
                <a:latin typeface="Monotype Corsiva"/>
              </a:rPr>
              <a:t>Клод Мо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cccc"/>
                </a:solidFill>
                <a:latin typeface="Monotype Corsiva"/>
              </a:rPr>
              <a:t>(1840 – 1926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фото К"/>
          <p:cNvPicPr/>
          <p:nvPr/>
        </p:nvPicPr>
        <p:blipFill>
          <a:blip r:embed="rId1"/>
          <a:stretch/>
        </p:blipFill>
        <p:spPr>
          <a:xfrm>
            <a:off x="3048120" y="1523880"/>
            <a:ext cx="2857320" cy="3810240"/>
          </a:xfrm>
          <a:prstGeom prst="rect">
            <a:avLst/>
          </a:prstGeom>
          <a:ln w="5724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66196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33cccc"/>
                </a:solidFill>
                <a:uFillTx/>
                <a:latin typeface="Arial"/>
              </a:rPr>
              <a:t>Пейзаж</a:t>
            </a:r>
            <a:r>
              <a:rPr b="0" i="1" lang="ru-RU" sz="4000" spc="-1" strike="noStrike">
                <a:solidFill>
                  <a:srgbClr val="33cccc"/>
                </a:solidFill>
                <a:latin typeface="Arial"/>
              </a:rPr>
              <a:t> – это изображение приро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62000" y="4624560"/>
            <a:ext cx="482472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облака в поле Сислей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800600"/>
          </a:xfrm>
          <a:prstGeom prst="rect">
            <a:avLst/>
          </a:prstGeom>
          <a:ln w="5724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5562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Клод Мо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«Впечатление. Восход солнца» 1874 г. Франц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claude-monet-impression-sunrise"/>
          <p:cNvPicPr/>
          <p:nvPr/>
        </p:nvPicPr>
        <p:blipFill>
          <a:blip r:embed="rId1"/>
          <a:stretch/>
        </p:blipFill>
        <p:spPr>
          <a:xfrm>
            <a:off x="1219320" y="304920"/>
            <a:ext cx="6667560" cy="517212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33cccc"/>
                </a:solidFill>
                <a:uFillTx/>
                <a:latin typeface="Arial"/>
              </a:rPr>
              <a:t>Особенности рисования картин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2658960"/>
            <a:ext cx="854064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Рисовали на прир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Использовали масляные кра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Художники изображали своё впечатление от увиден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86400" y="11430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«Сад»</a:t>
            </a:r>
            <a:br>
              <a:rPr sz="2600"/>
            </a:b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Камиль Писсро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8120" y="5346720"/>
            <a:ext cx="405144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«Облака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Альфред Сисл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облака в поле Сислей"/>
          <p:cNvPicPr/>
          <p:nvPr/>
        </p:nvPicPr>
        <p:blipFill>
          <a:blip r:embed="rId1"/>
          <a:stretch/>
        </p:blipFill>
        <p:spPr>
          <a:xfrm>
            <a:off x="304920" y="457200"/>
            <a:ext cx="4419360" cy="441972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4" name="Picture 5" descr="сад Писсаро"/>
          <p:cNvPicPr/>
          <p:nvPr/>
        </p:nvPicPr>
        <p:blipFill>
          <a:blip r:embed="rId2"/>
          <a:stretch/>
        </p:blipFill>
        <p:spPr>
          <a:xfrm>
            <a:off x="4343400" y="2286000"/>
            <a:ext cx="4572000" cy="37530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31528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«Кувшинки»</a:t>
            </a:r>
            <a:br>
              <a:rPr sz="2600"/>
            </a:b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Клод Моне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2880" y="594360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cccc"/>
                </a:solidFill>
                <a:latin typeface="Arial"/>
              </a:rPr>
              <a:t>«Букет в стеклянной вазе» Эдуард Ма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кувшинки К Моне"/>
          <p:cNvPicPr/>
          <p:nvPr/>
        </p:nvPicPr>
        <p:blipFill>
          <a:blip r:embed="rId1"/>
          <a:stretch/>
        </p:blipFill>
        <p:spPr>
          <a:xfrm>
            <a:off x="304920" y="1523880"/>
            <a:ext cx="4343400" cy="4800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8" name="Picture 5" descr="букет в хрустальной вазе Э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54864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юта</cp:lastModifiedBy>
  <dcterms:modified xsi:type="dcterms:W3CDTF">2011-10-13T07:26:4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