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6D5E-70F1-4E62-BB72-1CD6AA557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1B2-290A-4043-B4F9-C8FAE77A59B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06F-716F-4B40-83DF-1104F1F6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BBE-7743-4FAB-9701-3AFBC83F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A49-37CF-4E93-B5C9-ED6CACFF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D3CB-C7DB-4D13-8595-379822C3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1AAF-1F6B-4236-A75F-B6E16499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5F58-2C39-4D07-8388-160AB5ED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6196-6FD9-4B72-AA37-F013888C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AF30-1A88-4853-96AC-B08C4E6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648-C9F9-42AE-B76C-129DC828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0C19-D5A9-4F0C-B23A-48FD2550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F7C-2115-4554-9B10-484B86A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617-D8D4-4CE9-BBED-97D92CC1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601-63AB-4C0E-B20E-EBA26971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85B-6AE2-427C-9599-31DB449B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831B-0F70-47E9-A92D-EC2ACE04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05F-3E06-4876-A59E-D0BE03BE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80B3-5EAF-4191-BE0E-8DC99623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A09-13BF-4048-820F-B853DB1E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CAC-7020-480D-991A-C78FD24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CAA-E868-4074-A6A3-B557F6C2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5B0-9501-46E6-BDF4-BE2D9760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E60-7B20-4AEB-91B3-E223D8C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2CF-E5C8-40B6-9D74-823B9E9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30E-9F49-45C3-B068-22DA2B5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4D7D-3986-44E1-B6E8-107FDB6C254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DC20-0404-41CC-9E6A-E95F0874776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99cc99"/>
                </a:solidFill>
                <a:latin typeface="Times New Roman"/>
                <a:ea typeface="Times New Roman"/>
              </a:rPr>
              <a:t>«Оформление отчетной документации педагога дополнительного образования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962160" y="2927520"/>
            <a:ext cx="518148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Нальчик, 2022г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28951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99"/>
                </a:solidFill>
                <a:latin typeface="Times New Roman"/>
                <a:ea typeface="Times New Roman"/>
              </a:rPr>
              <a:t>Характеристика </a:t>
            </a:r>
            <a:br>
              <a:rPr sz="3600"/>
            </a:br>
            <a:r>
              <a:rPr b="1" lang="ru-RU" sz="3600" spc="-1" strike="noStrike">
                <a:solidFill>
                  <a:srgbClr val="99cc99"/>
                </a:solidFill>
                <a:latin typeface="Times New Roman"/>
                <a:ea typeface="Times New Roman"/>
              </a:rPr>
              <a:t>контингента обучающихс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3520" y="44953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атистические данные в отчете должны полностью совпадать с данными в журнале учета работы педагога дополнительного образования и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истеме ПФД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Таблица 4" descr=""/>
          <p:cNvPicPr/>
          <p:nvPr/>
        </p:nvPicPr>
        <p:blipFill>
          <a:blip r:embed="rId1"/>
          <a:stretch/>
        </p:blipFill>
        <p:spPr>
          <a:xfrm>
            <a:off x="1450800" y="2682720"/>
            <a:ext cx="6242400" cy="14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ингент обучающих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хранность контингента обучаю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полняемость контингента обучаю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3124080"/>
          <a:ext cx="6096240" cy="8017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-во обучающихся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/на сентябрь месяц/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-во обучающихся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/на май м-ц/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сохранност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23880" y="4876920"/>
          <a:ext cx="6096240" cy="9144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-во обучающихся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/на сентябрь месяц/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-во обучающихся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/на май м-ц/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наполняемост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учающихс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62640" y="1190880"/>
            <a:ext cx="767592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ровень освоения дополнительных общеобразовательных  общеразвивающих програм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межуточная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агностика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(проводится в конце первого года обучения) – позволяет выявить достигнутый на данном этапе уровень освоения программы обучающимися, динамику творческого и личностного развития, соответствие его прогнозируемому и на этой основе оценить успешность выбранных форм и методов обучения, а также при необходимости скорректировать их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2514600"/>
          <a:ext cx="7543800" cy="3390840"/>
        </p:xfrm>
        <a:graphic>
          <a:graphicData uri="http://schemas.openxmlformats.org/drawingml/2006/table">
            <a:tbl>
              <a:tblPr/>
              <a:tblGrid>
                <a:gridCol w="2590560"/>
                <a:gridCol w="2438640"/>
                <a:gridCol w="2514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ходящая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ежуточна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ая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ходящая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иагностика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водится со всеми детьми для определения уровня  первичной теоретической и практической подготовки в выбранной области деятельности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межуточная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проводится в декабре) позволяет выявить достигнутый на данном этапе уровень освоения программы обучающимися, динамику творческого и личностного развития, соответствие его прогнозируемому и на этой основе оценить успешность выбранных форм и методов обучения, а также при необходимости скорректировать их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тоговая диагностика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проводится в мае) обучающихся проводится по окончании учебного года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 дополнительной общеобразовательной программе в соответствии с требованиями 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ровню освоения содержания образования, предусмотренного программой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362320"/>
          <a:ext cx="7693200" cy="3458880"/>
        </p:xfrm>
        <a:graphic>
          <a:graphicData uri="http://schemas.openxmlformats.org/drawingml/2006/table">
            <a:tbl>
              <a:tblPr/>
              <a:tblGrid>
                <a:gridCol w="381240"/>
                <a:gridCol w="2895480"/>
                <a:gridCol w="441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публика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и место публика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крытка скрапбукинг «Голубь мира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.01.2022г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eeeee"/>
                          </a:solidFill>
                          <a:uFillTx/>
                          <a:latin typeface="Times New Roman"/>
                          <a:ea typeface="Times New Roman"/>
                        </a:rPr>
                        <a:t>https</a:t>
                      </a:r>
                      <a:r>
                        <a:rPr b="0" lang="ru-RU" sz="1400" spc="-1" strike="noStrike" u="sng">
                          <a:solidFill>
                            <a:srgbClr val="ceeeee"/>
                          </a:solidFill>
                          <a:uFillTx/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US" sz="1400" spc="-1" strike="noStrike" u="sng">
                          <a:solidFill>
                            <a:srgbClr val="ceeeee"/>
                          </a:solidFill>
                          <a:uFillTx/>
                          <a:latin typeface="Times New Roman"/>
                          <a:ea typeface="Times New Roman"/>
                        </a:rPr>
                        <a:t>//infourok.ru/otkrytka-skrapbuking-golub-mira-5644271.htm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Вернулись с победой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.02.2021г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азета Кабардино-Балкарская правда №21(25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спект открытого занятия «Экологическая игра «Поле Чудес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.04.2021г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тельный СМИ «Педагогический альманах» https://www.pedalman ac.ru./243628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Нестандартные формы проведения учебных занятий в дополнительном образовании»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.01.2020г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ждународный образовательный портал «Солнечный свет» (сборник статей) http://solncesvet.ru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75780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убликация как способ обобщения и предст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дагогического опыт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ттестация и повышение квалификации педаго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2617920"/>
          <a:ext cx="7464600" cy="3330360"/>
        </p:xfrm>
        <a:graphic>
          <a:graphicData uri="http://schemas.openxmlformats.org/drawingml/2006/table">
            <a:tbl>
              <a:tblPr/>
              <a:tblGrid>
                <a:gridCol w="1405080"/>
                <a:gridCol w="2327400"/>
                <a:gridCol w="1865160"/>
                <a:gridCol w="1866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курсов повышения квалификаци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о провед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часов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09.2021г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«Организация методической работы в образовательных организациях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У ДПО ОТ «Экспертиза труда»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2ч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222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3366"/>
                          </a:solidFill>
                          <a:uFillTx/>
                          <a:latin typeface="Times New Roman"/>
                          <a:ea typeface="Times New Roman"/>
                        </a:rPr>
                        <a:t>Вносим данные только  за отчетный перио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стижения обучающихс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057400"/>
          <a:ext cx="8229600" cy="3989520"/>
        </p:xfrm>
        <a:graphic>
          <a:graphicData uri="http://schemas.openxmlformats.org/drawingml/2006/table">
            <a:tbl>
              <a:tblPr/>
              <a:tblGrid>
                <a:gridCol w="415800"/>
                <a:gridCol w="2057400"/>
                <a:gridCol w="1601640"/>
                <a:gridCol w="1411560"/>
                <a:gridCol w="1176120"/>
                <a:gridCol w="1567080"/>
              </a:tblGrid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, место проведени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е место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призера/победителя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еспубликанский конкурс творческих работ учащихся «Пробуем перо»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11.2021г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. Нальчи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егиональны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 мест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Жигунова Алин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звание мероприятия должно полностью совпадать с названием в положен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полное наз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ровень меропри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Муниципальный конкурс</a:t>
            </a:r>
            <a:r>
              <a:rPr b="1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роприятие проводится внутри города .. среди школ, среди организац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Региональный конкурс</a:t>
            </a:r>
            <a:r>
              <a:rPr b="1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роприятие, проводимое в регио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Межрегиональный конкурс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полагает проведение конкурсного мероприятия между отдельными регионами, област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Всероссийский конкурс</a:t>
            </a:r>
            <a:r>
              <a:rPr b="1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ие принимают обучающиеся, творческие коллективы всех субъектов РФ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85ff"/>
                </a:solidFill>
                <a:latin typeface="Times New Roman"/>
                <a:ea typeface="Times New Roman"/>
              </a:rPr>
              <a:t>Международный конкурс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частниками конкурса являются представители из разных стра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 отчету необходимо приложить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плом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рамот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ртификат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идетельства о публик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алы методических разработок и публикаций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копи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ta</cp:lastModifiedBy>
  <dcterms:modified xsi:type="dcterms:W3CDTF">2022-06-24T14:00:10Z</dcterms:modified>
  <cp:revision>1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