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78D-EDEB-47D1-92B3-603FACD9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BF1-297B-4D07-B5C6-5E7FD0FA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03F-02D2-4BD6-8877-F7B96732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3C0-B05D-4A35-ADE2-F392913A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031-0CAE-4FEC-8C48-95CD6F9D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4A1-35FA-4FAF-AC33-1742B4C1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204-E1A9-42A9-96DD-A238BD02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9DA-67A5-45DE-B659-F961E30F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B1A-B791-4EEB-9D5F-6295B79A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551-8B74-4699-8F18-992D91A4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671-10CD-4968-B127-C38DCD3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521-8429-418E-82A4-503C2A74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F236-16B8-4C99-BDB0-C1EA35353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b7b75af84e88.png"/>
          <p:cNvPicPr/>
          <p:nvPr/>
        </p:nvPicPr>
        <p:blipFill>
          <a:blip r:embed="rId3"/>
          <a:stretch/>
        </p:blipFill>
        <p:spPr>
          <a:xfrm>
            <a:off x="-142920" y="-142920"/>
            <a:ext cx="9572760" cy="732168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7" descr="81697cdb209b.jpg"/>
          <p:cNvPicPr/>
          <p:nvPr/>
        </p:nvPicPr>
        <p:blipFill>
          <a:blip r:embed="rId4"/>
          <a:srcRect l="49349" t="0" r="0" b="43671"/>
          <a:stretch/>
        </p:blipFill>
        <p:spPr>
          <a:xfrm>
            <a:off x="7786800" y="4714920"/>
            <a:ext cx="135720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sportal.ru/" TargetMode="External"/><Relationship Id="rId2" Type="http://schemas.openxmlformats.org/officeDocument/2006/relationships/hyperlink" Target="http://www.maaam.ru/" TargetMode="External"/><Relationship Id="rId3" Type="http://schemas.openxmlformats.org/officeDocument/2006/relationships/hyperlink" Target="http://www.sipkro.ru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 rot="21437400">
            <a:off x="684360" y="162792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истема работы педагога по развитию любознательности и познавательной мотивации у детей дошкольного возра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280" y="4581360"/>
            <a:ext cx="70167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ыполнила: Зотова Е.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оспитатель ГБОУ СОШ с/п д/с «Ручеё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.п Черноречь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ктуальнос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1332000" y="1916280"/>
            <a:ext cx="619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 и родители, как правило, озабочены развитием знаний и умений ребенка, а не формированием у него интереса к познанию окружающей действительности. Поняв механизм формирования мотивационно – познавательной сферы ребенка, мы сможем целенаправленно влиять при помощи воспитательных воздействий на становление мотивации достижения наших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9520" y="1163520"/>
          <a:ext cx="6095880" cy="4651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6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ая знач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тивореч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68360" y="1268280"/>
            <a:ext cx="813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жду возрастающей потребностью общества в активизации личностного развития ребенка-дошкольника, одним из показателей которого является познавательный интерес, и не разработанностью теоретического аспекта, адекватных путей и средств развития познавательного интереса в педагогической деятельности ДО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жду необходимостью использования системно-деятельностного подхода, оказывающего решающее влияние на развитие познавательного интереса ребенка, и недостаточной компетентностью педагогов в решении данной пробл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жду большими потенциальными возможностями ребенка в дошкольном детстве и неудовлетворительной организацией образовательной деятельности в ДОУ по развитию познавательного интереса у воспита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Прямая со стрелкой 28"/>
          <p:cNvCxnSpPr/>
          <p:nvPr/>
        </p:nvCxnSpPr>
        <p:spPr>
          <a:xfrm>
            <a:off x="3092040" y="4608360"/>
            <a:ext cx="218988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31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ханизм реализ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771640" y="1484280"/>
            <a:ext cx="59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ект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ытно-эксперимента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елирование (использование моделей при пересказ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мультимедийных средств и электронных дидактических пособ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едагогической диагнос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http://go4.imgsmail.ru/imgpreview?key=5c13f76e15d96199&amp;mb=imgdb_preview_975"/>
          <p:cNvPicPr/>
          <p:nvPr/>
        </p:nvPicPr>
        <p:blipFill>
          <a:blip r:embed="rId1"/>
          <a:stretch/>
        </p:blipFill>
        <p:spPr>
          <a:xfrm>
            <a:off x="900000" y="1484280"/>
            <a:ext cx="1514520" cy="2390760"/>
          </a:xfrm>
          <a:prstGeom prst="rect">
            <a:avLst/>
          </a:prstGeom>
          <a:ln w="0">
            <a:noFill/>
          </a:ln>
        </p:spPr>
      </p:pic>
      <p:sp>
        <p:nvSpPr>
          <p:cNvPr id="54" name="Овал 4"/>
          <p:cNvSpPr/>
          <p:nvPr/>
        </p:nvSpPr>
        <p:spPr>
          <a:xfrm>
            <a:off x="468360" y="3792600"/>
            <a:ext cx="3095640" cy="936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5"/>
          <p:cNvSpPr/>
          <p:nvPr/>
        </p:nvSpPr>
        <p:spPr>
          <a:xfrm>
            <a:off x="627120" y="5084640"/>
            <a:ext cx="2058840" cy="457200"/>
          </a:xfrm>
          <a:prstGeom prst="roundRect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6"/>
          <p:cNvSpPr/>
          <p:nvPr/>
        </p:nvSpPr>
        <p:spPr>
          <a:xfrm>
            <a:off x="4140360" y="4108320"/>
            <a:ext cx="205884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спитатели Д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7"/>
          <p:cNvSpPr/>
          <p:nvPr/>
        </p:nvSpPr>
        <p:spPr>
          <a:xfrm>
            <a:off x="3317760" y="4802040"/>
            <a:ext cx="2059200" cy="56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зкие специал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8"/>
          <p:cNvSpPr/>
          <p:nvPr/>
        </p:nvSpPr>
        <p:spPr>
          <a:xfrm>
            <a:off x="1633680" y="5732640"/>
            <a:ext cx="205884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5370480" y="5313240"/>
            <a:ext cx="2079720" cy="1043280"/>
          </a:xfrm>
          <a:prstGeom prst="rect">
            <a:avLst/>
          </a:prstGeom>
          <a:ln w="0">
            <a:noFill/>
          </a:ln>
        </p:spPr>
      </p:pic>
      <p:cxnSp>
        <p:nvCxnSpPr>
          <p:cNvPr id="60" name="Прямая со стрелкой 10"/>
          <p:cNvCxnSpPr/>
          <p:nvPr/>
        </p:nvCxnSpPr>
        <p:spPr>
          <a:xfrm>
            <a:off x="2701440" y="4728960"/>
            <a:ext cx="361080" cy="81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Прямая со стрелкой 11"/>
          <p:cNvCxnSpPr/>
          <p:nvPr/>
        </p:nvCxnSpPr>
        <p:spPr>
          <a:xfrm flipH="1">
            <a:off x="1186560" y="4728960"/>
            <a:ext cx="23580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15"/>
          <p:cNvCxnSpPr/>
          <p:nvPr/>
        </p:nvCxnSpPr>
        <p:spPr>
          <a:xfrm>
            <a:off x="3387240" y="4462200"/>
            <a:ext cx="67860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23"/>
          <p:cNvCxnSpPr/>
          <p:nvPr/>
        </p:nvCxnSpPr>
        <p:spPr>
          <a:xfrm>
            <a:off x="3443400" y="4273200"/>
            <a:ext cx="62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900000" y="1444680"/>
            <a:ext cx="73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бенок проявляет любознательность, задает вопросы взрослым и сверстникам, интересуется причинно-следственными связями, пытается самостоятельно придумывать объяснения явлениям природы; склонен наблюдать, экспериментировать, обладает элементарными представлениями из области живой природы, естествознания, математики, истории и т.п.;  ребенок способен к принятию собственных решений, опираясь на свои знания и умения в 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бенок обладает развитым воображением, которое реализуется в игре и 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ерспективы и решение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468360" y="1125360"/>
            <a:ext cx="81360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рмативно-правовые 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кон РФ «Об образовании», Федеральный государственный образовательный стандарт дошкольного образов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разработка Основную образовательную программу дошкольного образования в соответствии с федеральным государственным образовательным стандартом дошкольного образования и с учетом примерной програм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разработка и утверждение приказов о проведении экскур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разработка и утверждение приказа о создании лего-группы на базе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дровые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повышение квалификации педагогов по проблеме развития познавательной мотивации у дошкольников через обучение на курсах, взаимодействие с другими воспитателями, психолог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привлечение к работе психолога (для оценивания результата проектными методик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539640" y="476280"/>
            <a:ext cx="806472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учно-методические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внести изменения в годовое и тематическое планиров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создание методической копилки по теме: «Развитие любознательности и познавательной мотивации у дошкольников», в которую включены название книг, игр, пособий, методические разработки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доступность интернет-ресурсов (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nsportal.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maaam.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www.sipkro.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для получения знаний по заданной те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разработать серию консультаций для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е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участие в семинарах, конференциях, открытых занятиях по обмену профессиональным опытом по данному направл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улучшение предметно-развивающей сре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создание «Школы для родителей» с целью внедрения опыта воспитания семьи  /консультирование или мастер-классы родителей/ по реализации данной 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активное включение родителей в педагогическую деятельность /участие в проектах, развлечениях, экскурсиях и т.п.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создание в группе центров детской активности с учётом условий современной жизни. Например: «Библиотека», «Клуб путешественников», «Диспетчерский пункт», Станция “Скорой помощи”, «Конструкторское бюро»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- создание лего-группы в Д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go4.imgsmail.ru/imgpreview?key=6ced0d8d41c3dd3&amp;mb=imgdb_preview_908"/>
          <p:cNvPicPr/>
          <p:nvPr/>
        </p:nvPicPr>
        <p:blipFill>
          <a:blip r:embed="rId1"/>
          <a:stretch/>
        </p:blipFill>
        <p:spPr>
          <a:xfrm>
            <a:off x="468360" y="404640"/>
            <a:ext cx="2333520" cy="1552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539640" y="765000"/>
            <a:ext cx="80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ые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мещение на сайте ДОУ информации по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е развития любознательности и познавательной    мотивации: консультации, методические разработки, фотогалерея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н-лайн 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пилка мультимедийных дидактически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лектронн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здание электронных карт (наблюде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мещение статей о проведенных проектах, опытах, познавательных конкурсах и их результатах в газете, издаваемой в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ьно-технические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обретение достаточного количества дидактических игр по рассматриваемой теме, иллюстрации, наглядно-дидактические пособ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ретение конструкторов «Лего», «Тико» для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гогруппе на каждого обучающего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2" descr=""/>
          <p:cNvPicPr/>
          <p:nvPr/>
        </p:nvPicPr>
        <p:blipFill>
          <a:blip r:embed="rId1"/>
          <a:stretch/>
        </p:blipFill>
        <p:spPr>
          <a:xfrm>
            <a:off x="450720" y="1279440"/>
            <a:ext cx="8315280" cy="3652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1:20:58Z</dcterms:created>
  <dc:creator>Helen</dc:creator>
  <dc:description/>
  <dc:language>en-US</dc:language>
  <cp:lastModifiedBy>НАТАЛИ</cp:lastModifiedBy>
  <dcterms:modified xsi:type="dcterms:W3CDTF">2018-02-17T08:51:13Z</dcterms:modified>
  <cp:revision>26</cp:revision>
  <dc:subject/>
  <dc:title>Слайд 1</dc:title>
</cp:coreProperties>
</file>