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CFD-AE8A-4544-B36C-C571B28F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308-F935-4C7D-8F6F-FCF8FC6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593-E641-4109-AC22-B625BD5C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DE5-9F57-42E9-A6FC-D4ADF36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9422-11B9-4A48-87F7-66B80165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0B4E-4844-455B-994E-63365A97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0A60-CDE3-4E9C-8E54-9F2A9AF9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95D3-7126-430A-9D85-B2C405DE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DC0F-DFAC-46F7-B1E5-B4BC0D6A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D241-97EF-4C1B-81A9-C4510D6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FE1F-0C65-4BD7-A455-BD901F19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2C1-8103-4746-895F-2BB81010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67DC-3ADA-4513-8F63-AF08FBF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75A5-7D2A-40CC-BC6A-B50E8667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144D-E3A4-403E-9A0A-4737210B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37D5-2C56-4993-9897-DB654BE9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C732-C2B7-4D0C-910F-E42ADC28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1B8E-2C86-4CF9-8877-3C3957E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3D5-8C84-45A3-8F48-D7379697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E0D-F15A-48BB-A5F8-DFFB7B74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D8A-1ECA-47A2-896F-3074F64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64C-35D1-4270-A5EB-465606AA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37EC-456F-462D-B90D-9F4F0409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C3C6-3460-4A6B-9607-59A882F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1487-9CF2-4D39-A0B1-ADCAB17E7A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4A3F-ED4D-4EF0-AC56-277AC3348E9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МАТЕМАТ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436536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сканирование0011"/>
          <p:cNvPicPr/>
          <p:nvPr/>
        </p:nvPicPr>
        <p:blipFill>
          <a:blip r:embed="rId1"/>
          <a:stretch/>
        </p:blipFill>
        <p:spPr>
          <a:xfrm>
            <a:off x="176364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сканирование0012"/>
          <p:cNvPicPr/>
          <p:nvPr/>
        </p:nvPicPr>
        <p:blipFill>
          <a:blip r:embed="rId1"/>
          <a:stretch/>
        </p:blipFill>
        <p:spPr>
          <a:xfrm>
            <a:off x="1281240" y="415800"/>
            <a:ext cx="786276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сканирование0013"/>
          <p:cNvPicPr/>
          <p:nvPr/>
        </p:nvPicPr>
        <p:blipFill>
          <a:blip r:embed="rId1"/>
          <a:stretch/>
        </p:blipFill>
        <p:spPr>
          <a:xfrm>
            <a:off x="2257560" y="103320"/>
            <a:ext cx="46130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сканирование0014"/>
          <p:cNvPicPr/>
          <p:nvPr/>
        </p:nvPicPr>
        <p:blipFill>
          <a:blip r:embed="rId1"/>
          <a:stretch/>
        </p:blipFill>
        <p:spPr>
          <a:xfrm>
            <a:off x="1951200" y="307800"/>
            <a:ext cx="522576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7" descr="сканирование0015"/>
          <p:cNvPicPr/>
          <p:nvPr/>
        </p:nvPicPr>
        <p:blipFill>
          <a:blip r:embed="rId1"/>
          <a:stretch/>
        </p:blipFill>
        <p:spPr>
          <a:xfrm>
            <a:off x="647640" y="1600200"/>
            <a:ext cx="3656160" cy="445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сканирование0016"/>
          <p:cNvPicPr/>
          <p:nvPr/>
        </p:nvPicPr>
        <p:blipFill>
          <a:blip r:embed="rId2"/>
          <a:stretch/>
        </p:blipFill>
        <p:spPr>
          <a:xfrm>
            <a:off x="4648320" y="2125800"/>
            <a:ext cx="40384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7" descr="сканирование0017"/>
          <p:cNvPicPr/>
          <p:nvPr/>
        </p:nvPicPr>
        <p:blipFill>
          <a:blip r:embed="rId1"/>
          <a:stretch/>
        </p:blipFill>
        <p:spPr>
          <a:xfrm>
            <a:off x="647640" y="1600200"/>
            <a:ext cx="3656160" cy="4456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сканирование0018"/>
          <p:cNvPicPr/>
          <p:nvPr/>
        </p:nvPicPr>
        <p:blipFill>
          <a:blip r:embed="rId2"/>
          <a:stretch/>
        </p:blipFill>
        <p:spPr>
          <a:xfrm>
            <a:off x="4791240" y="1600200"/>
            <a:ext cx="3752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сканирование0009"/>
          <p:cNvPicPr/>
          <p:nvPr/>
        </p:nvPicPr>
        <p:blipFill>
          <a:blip r:embed="rId1"/>
          <a:stretch/>
        </p:blipFill>
        <p:spPr>
          <a:xfrm>
            <a:off x="2133720" y="0"/>
            <a:ext cx="441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сканирование0036"/>
          <p:cNvPicPr/>
          <p:nvPr/>
        </p:nvPicPr>
        <p:blipFill>
          <a:blip r:embed="rId1"/>
          <a:stretch/>
        </p:blipFill>
        <p:spPr>
          <a:xfrm>
            <a:off x="232740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16:13Z</dcterms:created>
  <dc:creator>Елена</dc:creator>
  <dc:description/>
  <dc:language>en-US</dc:language>
  <cp:lastModifiedBy>Пользователь Windows</cp:lastModifiedBy>
  <dcterms:modified xsi:type="dcterms:W3CDTF">2018-10-17T15:49:37Z</dcterms:modified>
  <cp:revision>13</cp:revision>
  <dc:subject/>
  <dc:title>МАТЕМАТИКА 17 и 19 ноября </dc:title>
</cp:coreProperties>
</file>