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05B-5F2B-4D97-8F95-75F86706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4EF-13DF-46BE-9A1B-2F5DF544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FF1-EE7E-4CBE-B1A5-1FDAE32F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74F-0DE5-4F5D-ADBE-CBA05955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8E47-6BF4-4F41-90C1-FDBB403B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074B-70B9-43F8-91AA-BC8F9F2E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D64B-B333-48C9-A510-942B6F07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1696-9A9F-4C8D-8A02-A5D6A475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A31E-D209-482E-B0DD-A0584327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C736-BDA6-4305-A4DB-96AA62A4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ECAF-D403-4FC5-A6F4-26736114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EEA-3587-4C39-89D8-96D5A305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4FD6-1E18-407E-900E-73DEC6E2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0BC9-87B3-41C1-AB89-3E2D82D4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B47B-61F0-4F62-B6AD-93B83FD8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EF98-27BF-4FC5-81E7-411ADA52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8287-2A6D-4E1C-866E-E02203F2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539-FF7C-456B-BE69-B4747B7A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AC0-1459-482A-96F3-6D505DE6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35A3-6CC6-4D6E-BA0C-D0A2F1D6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505E-10CB-4C55-A484-F69996CB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04F-BF27-4AF7-80B5-5E81E9B7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37A-B617-4BFE-9BA8-E2D75E6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F8B-27EA-4DEF-BCFA-38E29219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050A-D704-496E-95AD-E39023D410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5C26-2195-46DC-A843-FD019F45A924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МАТЕМАТИКА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58920" y="4365360"/>
            <a:ext cx="614664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сканирование0011"/>
          <p:cNvPicPr/>
          <p:nvPr/>
        </p:nvPicPr>
        <p:blipFill>
          <a:blip r:embed="rId1"/>
          <a:stretch/>
        </p:blipFill>
        <p:spPr>
          <a:xfrm>
            <a:off x="176364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сканирование0012"/>
          <p:cNvPicPr/>
          <p:nvPr/>
        </p:nvPicPr>
        <p:blipFill>
          <a:blip r:embed="rId1"/>
          <a:stretch/>
        </p:blipFill>
        <p:spPr>
          <a:xfrm>
            <a:off x="1281240" y="415800"/>
            <a:ext cx="7862760" cy="63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сканирование0013"/>
          <p:cNvPicPr/>
          <p:nvPr/>
        </p:nvPicPr>
        <p:blipFill>
          <a:blip r:embed="rId1"/>
          <a:stretch/>
        </p:blipFill>
        <p:spPr>
          <a:xfrm>
            <a:off x="2257560" y="103320"/>
            <a:ext cx="461304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сканирование0014"/>
          <p:cNvPicPr/>
          <p:nvPr/>
        </p:nvPicPr>
        <p:blipFill>
          <a:blip r:embed="rId1"/>
          <a:stretch/>
        </p:blipFill>
        <p:spPr>
          <a:xfrm>
            <a:off x="1951200" y="307800"/>
            <a:ext cx="522576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Picture 7" descr="сканирование0015"/>
          <p:cNvPicPr/>
          <p:nvPr/>
        </p:nvPicPr>
        <p:blipFill>
          <a:blip r:embed="rId1"/>
          <a:stretch/>
        </p:blipFill>
        <p:spPr>
          <a:xfrm>
            <a:off x="647640" y="1600200"/>
            <a:ext cx="3656160" cy="4456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сканирование0016"/>
          <p:cNvPicPr/>
          <p:nvPr/>
        </p:nvPicPr>
        <p:blipFill>
          <a:blip r:embed="rId2"/>
          <a:stretch/>
        </p:blipFill>
        <p:spPr>
          <a:xfrm>
            <a:off x="4648320" y="2125800"/>
            <a:ext cx="40384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7" descr="сканирование0017"/>
          <p:cNvPicPr/>
          <p:nvPr/>
        </p:nvPicPr>
        <p:blipFill>
          <a:blip r:embed="rId1"/>
          <a:stretch/>
        </p:blipFill>
        <p:spPr>
          <a:xfrm>
            <a:off x="647640" y="1600200"/>
            <a:ext cx="3656160" cy="4456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сканирование0018"/>
          <p:cNvPicPr/>
          <p:nvPr/>
        </p:nvPicPr>
        <p:blipFill>
          <a:blip r:embed="rId2"/>
          <a:stretch/>
        </p:blipFill>
        <p:spPr>
          <a:xfrm>
            <a:off x="4791240" y="1600200"/>
            <a:ext cx="37526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сканирование0009"/>
          <p:cNvPicPr/>
          <p:nvPr/>
        </p:nvPicPr>
        <p:blipFill>
          <a:blip r:embed="rId1"/>
          <a:stretch/>
        </p:blipFill>
        <p:spPr>
          <a:xfrm>
            <a:off x="2133720" y="0"/>
            <a:ext cx="441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сканирование0036"/>
          <p:cNvPicPr/>
          <p:nvPr/>
        </p:nvPicPr>
        <p:blipFill>
          <a:blip r:embed="rId1"/>
          <a:stretch/>
        </p:blipFill>
        <p:spPr>
          <a:xfrm>
            <a:off x="2327400" y="0"/>
            <a:ext cx="498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16:13Z</dcterms:created>
  <dc:creator>Елена</dc:creator>
  <dc:description/>
  <dc:language>en-US</dc:language>
  <cp:lastModifiedBy>Пользователь Windows</cp:lastModifiedBy>
  <dcterms:modified xsi:type="dcterms:W3CDTF">2018-10-17T15:49:37Z</dcterms:modified>
  <cp:revision>13</cp:revision>
  <dc:subject/>
  <dc:title>МАТЕМАТИКА 17 и 19 ноября </dc:title>
</cp:coreProperties>
</file>