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243-F167-456F-85CA-2C01BE89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FE6-FA61-49E4-A0E5-9C87C1CC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FC4-5BF4-4619-9A2D-B7A99E2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8FF-61E6-4B6A-BB13-1899C5E3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60E-2AF6-4435-9703-546A464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5EE-9779-4A10-B630-6ED899D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64A-BEAB-4812-ABB5-5E4EE53C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BE8-3D67-41F4-B028-5DD7681E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E13-D43E-4CC7-B7D9-8DDA5AB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1A5-3E37-4061-BA8A-0DEB6BA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02E-227E-4A5A-8F12-DDACD49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E24-5315-4351-987D-85BBB36C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272-8D44-4489-B9AE-5B0AACE8B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7280"/>
            <a:ext cx="6254640" cy="9921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МБДОУ «Детский сад № 68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«РОСИНК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6960" y="3984120"/>
            <a:ext cx="8986680" cy="15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62000" indent="-162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новационные методы взаимодействия с семьями воспитанников ДОУ в условиях реализации  ФГ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Воспитатель первой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Швецова Наталья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Администратор\Desktop\IMG-20160601-WA0074.jpg"/>
          <p:cNvPicPr/>
          <p:nvPr/>
        </p:nvPicPr>
        <p:blipFill>
          <a:blip r:embed="rId1"/>
          <a:stretch/>
        </p:blipFill>
        <p:spPr>
          <a:xfrm>
            <a:off x="2900520" y="1461960"/>
            <a:ext cx="463680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980720" y="825120"/>
            <a:ext cx="6791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радиционные формы работы с родителями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Познавательные фор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родитель и детский с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-информацион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газ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проспек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ней открытых двер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0920" y="496440"/>
            <a:ext cx="65296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радиционные формы проведения родительских собр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DSC01345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4518000" y="1533600"/>
            <a:ext cx="4433760" cy="29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DSC01338"/>
          <p:cNvPicPr/>
          <p:nvPr/>
        </p:nvPicPr>
        <p:blipFill>
          <a:blip r:embed="rId2"/>
          <a:stretch/>
        </p:blipFill>
        <p:spPr>
          <a:xfrm>
            <a:off x="285840" y="3294000"/>
            <a:ext cx="449244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44520" y="614520"/>
            <a:ext cx="501660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результаты в воспитании детей достигаются при умелом сочетании разных форм сотрудничества, при активном включении в эту работу всех членов коллектива дошкольного учреждения и членов семей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обмен мыслями, чувств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живаниями, 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C:\Users\Администратор\Documents\Downloads\20180326_154545.jpg"/>
          <p:cNvPicPr/>
          <p:nvPr/>
        </p:nvPicPr>
        <p:blipFill>
          <a:blip r:embed="rId1"/>
          <a:stretch/>
        </p:blipFill>
        <p:spPr>
          <a:xfrm>
            <a:off x="789120" y="1646280"/>
            <a:ext cx="320040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140000" y="287280"/>
            <a:ext cx="4808520" cy="62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педагогов с родителями предполагает взаимопомощь, взаимоуважение и взаимодовери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такого взаимодействия – установление партнерских отношений участников педагогического процесса, приобщение родителей к жизни детского с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одходы к взаимодействию педагогов и родителей: переход от сотрудничества по обмену информацией и пропаганды педагогических знаний к сотрудничеству как межличностному общению педагога с род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м понятием здесь является диалог, под которым подразумевается личност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ное общение, совместное приобретение опы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DSC01342"/>
          <p:cNvPicPr/>
          <p:nvPr/>
        </p:nvPicPr>
        <p:blipFill>
          <a:blip r:embed="rId1"/>
          <a:stretch/>
        </p:blipFill>
        <p:spPr>
          <a:xfrm>
            <a:off x="469800" y="2708280"/>
            <a:ext cx="38559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57120" y="744480"/>
            <a:ext cx="76388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в настоящее время является реализация принципа открытости детского сада для родителей. Этот принцип предполагает, что родители могут иметь возможность свободно знакомиться с деятельностью ребенка в детском саду, стилем общения воспитателя с дошкольниками, включаясь в жизнь груп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взаимодействия ДОУ с семьей, основной акцент должен ставиться на воспитание субъективности родителей, формирование их воспитательной культуры. В этом контексте задача дошкольного образовательного учреждения сводится не к замещению семьи, а к ее обогащению теми практиками воспитания детей, которые накоплены в педагогической системе дошкольного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192200" y="926640"/>
            <a:ext cx="47293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Такой подход позволяет актуализировать скрытый воспитательный потенциал семьи путем включения родителей в воспитательный процесс ДО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 этом важно, чтобы родители выступали в качестве полноправных участников эт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Основные установки этого подхода можно выразить в виде формулы: активность + осознанность + самосто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41440" y="1881360"/>
            <a:ext cx="3665520" cy="4628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63440" y="295200"/>
            <a:ext cx="696276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шем детском саду мы используем следующие приемы работы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местная организация открытых за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C:\Users\Администратор\Desktop\ДОКУМЕНТЫ с рабочего стола\815KMYLY\IMG_7963.JPG"/>
          <p:cNvPicPr/>
          <p:nvPr/>
        </p:nvPicPr>
        <p:blipFill>
          <a:blip r:embed="rId1"/>
          <a:stretch/>
        </p:blipFill>
        <p:spPr>
          <a:xfrm>
            <a:off x="469800" y="2363760"/>
            <a:ext cx="3175200" cy="3944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C:\Users\Администратор\Desktop\ДОКУМЕНТЫ с рабочего стола\815KMYLY\IMG_8004.JPG"/>
          <p:cNvPicPr/>
          <p:nvPr/>
        </p:nvPicPr>
        <p:blipFill>
          <a:blip r:embed="rId2"/>
          <a:stretch/>
        </p:blipFill>
        <p:spPr>
          <a:xfrm>
            <a:off x="4202280" y="2446200"/>
            <a:ext cx="4510080" cy="3562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80880" y="392040"/>
            <a:ext cx="64263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ческие смотры-конкурсы творческих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8" descr="DSC00483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4516560" y="4100400"/>
            <a:ext cx="3673440" cy="244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DSC00829"/>
          <p:cNvPicPr/>
          <p:nvPr/>
        </p:nvPicPr>
        <p:blipFill>
          <a:blip r:embed="rId2"/>
          <a:stretch/>
        </p:blipFill>
        <p:spPr>
          <a:xfrm>
            <a:off x="4537080" y="1446120"/>
            <a:ext cx="3651120" cy="243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DSC01368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76200" y="410364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DSC00831"/>
          <p:cNvPicPr/>
          <p:nvPr/>
        </p:nvPicPr>
        <p:blipFill>
          <a:blip r:embed="rId4">
            <a:lum bright="12000"/>
          </a:blip>
          <a:srcRect l="0" t="0" r="11814" b="13646"/>
          <a:stretch/>
        </p:blipFill>
        <p:spPr>
          <a:xfrm>
            <a:off x="2090880" y="1425600"/>
            <a:ext cx="187164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95680" y="738000"/>
            <a:ext cx="6230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местные трудовые мероприятия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ка деревьев: Аллея детства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убботники: Трудовой десан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DSC00836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4413240" y="3160800"/>
            <a:ext cx="4291200" cy="3109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:\Users\Администратор\Documents\Downloads\small_information_items_117104.jpg"/>
          <p:cNvPicPr/>
          <p:nvPr/>
        </p:nvPicPr>
        <p:blipFill>
          <a:blip r:embed="rId2"/>
          <a:stretch/>
        </p:blipFill>
        <p:spPr>
          <a:xfrm>
            <a:off x="784080" y="2795760"/>
            <a:ext cx="3108600" cy="3579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20480" y="309240"/>
            <a:ext cx="6712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оздани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мини-библиотеки в детском с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9" descr="DSC0135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18960" y="263196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SC01359"/>
          <p:cNvPicPr/>
          <p:nvPr/>
        </p:nvPicPr>
        <p:blipFill>
          <a:blip r:embed="rId2">
            <a:lum bright="6000"/>
            <a:alphaModFix amt="31000"/>
          </a:blip>
          <a:srcRect l="0" t="8786" r="0" b="13683"/>
          <a:stretch/>
        </p:blipFill>
        <p:spPr>
          <a:xfrm>
            <a:off x="4784760" y="12366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SC01360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819680" y="4143240"/>
            <a:ext cx="3971880" cy="2310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984320" y="692280"/>
            <a:ext cx="64404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для ребенка-это источник общественного опыта , здесь он находит примеры для подражания и здесь происходит его социальное рождение. И если мы хотим вырастить нравственно здоровое поколение, то должны решать эту проблему «всем миром»: детский сад, семья, обществен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2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.В. Глеб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363400" y="651960"/>
            <a:ext cx="645156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трудничество детского сада с   детской библиотекой №16 г.Владивост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познавательных меропри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– классы для детей и родителей (изготовление книжки – малыш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Администратор\Documents\Downloads\small_information_items_172628.jpg"/>
          <p:cNvPicPr/>
          <p:nvPr/>
        </p:nvPicPr>
        <p:blipFill>
          <a:blip r:embed="rId1"/>
          <a:stretch/>
        </p:blipFill>
        <p:spPr>
          <a:xfrm>
            <a:off x="444600" y="3344760"/>
            <a:ext cx="3762360" cy="2797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C:\Users\Администратор\Documents\Downloads\small_information_items_172630.jpg"/>
          <p:cNvPicPr/>
          <p:nvPr/>
        </p:nvPicPr>
        <p:blipFill>
          <a:blip r:embed="rId2"/>
          <a:stretch/>
        </p:blipFill>
        <p:spPr>
          <a:xfrm>
            <a:off x="4535640" y="3317760"/>
            <a:ext cx="40208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66880" y="713880"/>
            <a:ext cx="695304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местные празд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1 сентябр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ень тиг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ень мате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Квес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Тематические мастер - класс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Театральные постанов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Users\Администратор\Documents\Downloads\small_information_items_173918.jpg"/>
          <p:cNvPicPr/>
          <p:nvPr/>
        </p:nvPicPr>
        <p:blipFill>
          <a:blip r:embed="rId1"/>
          <a:stretch/>
        </p:blipFill>
        <p:spPr>
          <a:xfrm>
            <a:off x="882720" y="4173480"/>
            <a:ext cx="3513240" cy="224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:\Users\Администратор\Documents\Downloads\small_information_groups_9619.jpg"/>
          <p:cNvPicPr/>
          <p:nvPr/>
        </p:nvPicPr>
        <p:blipFill>
          <a:blip r:embed="rId2"/>
          <a:stretch/>
        </p:blipFill>
        <p:spPr>
          <a:xfrm>
            <a:off x="4789440" y="4197240"/>
            <a:ext cx="3429000" cy="2233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:\Users\Администратор\Documents\Downloads\small_information_items_170715.jpg"/>
          <p:cNvPicPr/>
          <p:nvPr/>
        </p:nvPicPr>
        <p:blipFill>
          <a:blip r:embed="rId3"/>
          <a:stretch/>
        </p:blipFill>
        <p:spPr>
          <a:xfrm>
            <a:off x="5367240" y="1631880"/>
            <a:ext cx="344484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08240" y="392040"/>
            <a:ext cx="603576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оме этого в детском саду еще работает </a:t>
            </a:r>
            <a:br>
              <a:rPr sz="32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Почта для родителей»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предложения, рабочие моменты, интересующие родителей, пишутся на листочках и опускаются в почтовый ящик для рассмотрения администрацией детского са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4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Ящик для голосования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различные конкурсы родители голосуют за понравившиеся работы и кроме победителей вручается «Приз зрительских симпатий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6" descr="ÐÐ°ÑÑÐ¸Ð½ÐºÐ¸ Ð¿Ð¾ Ð·Ð°Ð¿ÑÐ¾ÑÑ ÐºÐ°ÑÑÐ¸Ð½ÐºÐ° Ð¿Ð¾ÑÑÑ Ð² Ð´ÐµÑ ÑÐ°Ð´Ñ"/>
          <p:cNvPicPr/>
          <p:nvPr/>
        </p:nvPicPr>
        <p:blipFill>
          <a:blip r:embed="rId1"/>
          <a:stretch/>
        </p:blipFill>
        <p:spPr>
          <a:xfrm>
            <a:off x="235080" y="3030480"/>
            <a:ext cx="300492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97440" y="549000"/>
            <a:ext cx="49370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юминка нашего сад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зета «Росинка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буднях детей в детском с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представлена удивительная возможность увидеть как их ребятишки проживают каждый день в сад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праздничных мероприятий, мы описываем ежедневные новости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ds68.pupils.ru/our-group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C:\Users\Администратор\Documents\Downloads\IMG-20180326-WA0026 (1).jpg"/>
          <p:cNvPicPr/>
          <p:nvPr/>
        </p:nvPicPr>
        <p:blipFill>
          <a:blip r:embed="rId1"/>
          <a:stretch/>
        </p:blipFill>
        <p:spPr>
          <a:xfrm rot="20987400">
            <a:off x="639720" y="2953800"/>
            <a:ext cx="3108240" cy="3422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C:\Users\Администратор\Documents\Downloads\IMG-20180326-WA0027 (1).jpg"/>
          <p:cNvPicPr/>
          <p:nvPr/>
        </p:nvPicPr>
        <p:blipFill>
          <a:blip r:embed="rId2"/>
          <a:stretch/>
        </p:blipFill>
        <p:spPr>
          <a:xfrm rot="21090600">
            <a:off x="1566720" y="1308240"/>
            <a:ext cx="2820960" cy="3501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454640" y="718920"/>
            <a:ext cx="4487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род на подокон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группе нашего детского сада на подоконниках появились забавные огородики. Очень постарались педагоги и детки, родители приняли активное участие в организации «мини-лаборатории на подоконнике» ведь в детском саду объявлен проект «Вырастим витамины своими руками». А в мае вся рассада из мини-огородов будет пересажена в настоящий огород на территории детского сада. В котором уже кроме ребят, за растениями будут присматривать и солнышко, и ветерок и дожди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C:\Users\Администратор\Desktop\папка №2\IMG_1746.JPG"/>
          <p:cNvPicPr/>
          <p:nvPr/>
        </p:nvPicPr>
        <p:blipFill>
          <a:blip r:embed="rId1"/>
          <a:stretch/>
        </p:blipFill>
        <p:spPr>
          <a:xfrm>
            <a:off x="973080" y="174312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C:\Users\ната\Downloads\20160727_184455.jpg"/>
          <p:cNvPicPr/>
          <p:nvPr/>
        </p:nvPicPr>
        <p:blipFill>
          <a:blip r:embed="rId2"/>
          <a:stretch/>
        </p:blipFill>
        <p:spPr>
          <a:xfrm>
            <a:off x="492120" y="4255920"/>
            <a:ext cx="41734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33440" y="404640"/>
            <a:ext cx="62820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еленый патрул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да в год в нашем детском саду проходит акция «Зеленый патруль». Дети подготовительных  групп берут шевство над огородом детского сада (поливают растения, рыхлят землю, собирают урожай. Весь собранный урожай идет на стол ребя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4" descr="C:\Users\Администратор\Documents\Downloads\small_information_items_117102.jpg"/>
          <p:cNvPicPr/>
          <p:nvPr/>
        </p:nvPicPr>
        <p:blipFill>
          <a:blip r:embed="rId1"/>
          <a:stretch/>
        </p:blipFill>
        <p:spPr>
          <a:xfrm>
            <a:off x="4754520" y="3068640"/>
            <a:ext cx="3932280" cy="3162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C:\Users\Администратор\Documents\Downloads\small_information_items_172903.jpg"/>
          <p:cNvPicPr/>
          <p:nvPr/>
        </p:nvPicPr>
        <p:blipFill>
          <a:blip r:embed="rId2"/>
          <a:stretch/>
        </p:blipFill>
        <p:spPr>
          <a:xfrm>
            <a:off x="522360" y="3487680"/>
            <a:ext cx="38671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10960" y="379440"/>
            <a:ext cx="65041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совмест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семьи и детского сада– это длительный процесс, долгий и кропотливый труд, требующий от педагогов и родителей терпения, творчества и взаимопонимания. Таким образом, использование разнообразных форм общения с семьями воспитанников нашего детского сада привело к положительным результатам: изменился характер взаимодействия педагогов с родителями, некоторые из них стали активными участниками всех дел детского сада, и незаменимыми помощниками воспит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й своей работой сотрудники ДОУ доказывают родителям , что их вовлечение в педагогическую деятельность, заинтересованное участие в образовательном процессе важно не потому, что этого хочет воспитатель, а потому, что это необходимо для развития их собственного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2120" y="2325240"/>
            <a:ext cx="87645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Franklin Gothic Medium Cond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51160" y="822240"/>
            <a:ext cx="64404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направлением деятельности воспитателя в детском саду на современном этапе, в соответствии с требованиями ФГОС ДО,  является тесное взаимодействие с родителями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семьей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читывать современные подходы к проблеме педагогической компетентности родителей, и  направлена на ее повы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8560" y="404640"/>
            <a:ext cx="78868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ы дошкольного образ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.2.Стандарт закрепляет принцип личностно-развивающего и гуманистического характера взаимодействия взрослых родителей (законных представителей) педагогических и иных работников Организации 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1.4. Одним из основных принципов дошкольного образования, закрепленных в Стандарте, является сотрудничество Организации с семьей. Задачи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1.6. Обеспечение психолого-педагогической поддержки семьи и повышение компетентности родителей (законных представителей )в вопросах развития и образования, охраны и укрепления здоровь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1.7. Стандарт является основой для оказания помощи родителям (законным представителям) в воспитании детей, охране и укреплении их физического и психического здоровья, в развитии индивидуальных способностей и коррекции нарушения их развития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28800" y="809280"/>
            <a:ext cx="68580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 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отношений партнерства и сотрудничества между родителями и ребенком в сем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помощь родителям воспитанников в осознании своей роли, значения и возможностей в воспитании здорового и успешного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347840" y="761760"/>
            <a:ext cx="7416720" cy="54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 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контакта с родителями для близкого знакомства с особенностями семейного воспитания и активизация их в жизни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новых форм работы с семьёй, как фактора позитивного развития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детского сада с родителями воспитанников в решении задач образовательной программы по организации игровой, творческой, конструктивной и трудов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61840" y="326880"/>
            <a:ext cx="803448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работы с родител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формы работы с родител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лективные формы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, круглые столы, субботники, присутствие родителей на открытых занятиях, экскур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ые формы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открытых двер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праздники, досуги, развлечения, чаепит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 родителей в семейных конкурсах, выставка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ой трудовой деятель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е оформление стендов, уголков, фотовыстав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 интересующим родителей вопроса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беседы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ÐÐ°ÑÑÐ¸Ð½ÐºÐ¸ Ð¿Ð¾ Ð·Ð°Ð¿ÑÐ¾ÑÑ ÐºÐ°ÑÑÐ¸Ð½ÐºÐ° Ð°Ð½ÐºÐµÑÑ Ð² Ð´ÐµÑÑ ÑÐ°Ð´Ñ"/>
          <p:cNvPicPr/>
          <p:nvPr/>
        </p:nvPicPr>
        <p:blipFill>
          <a:blip r:embed="rId1"/>
          <a:stretch/>
        </p:blipFill>
        <p:spPr>
          <a:xfrm>
            <a:off x="4781520" y="5114880"/>
            <a:ext cx="376092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63280" y="639360"/>
            <a:ext cx="675180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работы с родителя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формы работы с родител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854360" y="2533680"/>
            <a:ext cx="68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-информ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-передвиж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фрагменты организации различных          видов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детских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85760" y="574560"/>
            <a:ext cx="6870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радиционные формы работы с родителя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Информационно- аналитическ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циологических срезов, опросов, анкетирова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товый ящик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локн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Досуговые формы раб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досуги с родителя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, участие в выставк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мастер – класс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ах семейного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Детский сад</cp:lastModifiedBy>
  <dcterms:modified xsi:type="dcterms:W3CDTF">2018-11-16T04:03:52Z</dcterms:modified>
  <cp:revision>28</cp:revision>
  <dc:subject/>
  <dc:title>Название презентации</dc:title>
</cp:coreProperties>
</file>