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129-967A-4544-AC92-DBA72FAC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80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3640" y="4245120"/>
            <a:ext cx="8280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5C2-450A-4716-9104-F1B29F22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364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660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CD82-446D-4FA5-8703-09A81FB6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3360" y="198864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3440" y="198864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3640" y="42451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3360" y="42451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3440" y="42451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02C-96D5-4F86-BAD7-4EBC738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C179-90F0-443B-9796-D6D54235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4C2-940D-45BD-AB3C-6D847A65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F2DE-CD8A-449F-B66E-EDEB7020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5ED0-2DA8-4F18-96EA-09590CE7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6F2B-DA5A-4A18-AFD1-8B0822EC8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700000" y="-27360"/>
            <a:ext cx="633564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0581-5067-4A77-8E48-8CD7E89B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364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A32D-75B2-4A9C-A4CE-FA17359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6AD-76E2-40BD-8F0D-A6AEAF07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660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5241-5079-42C6-8497-3B5C892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3640" y="4245120"/>
            <a:ext cx="8280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A099-02C2-40C0-9C84-79E8242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80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640" y="4245120"/>
            <a:ext cx="8280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A26B-D27C-4EA8-B0A4-E593571E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364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6660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39C5-D74A-4DC6-8762-838056238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23360" y="198864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23440" y="198864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3640" y="42451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23360" y="42451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23440" y="4245120"/>
            <a:ext cx="26661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1F56-D013-4919-81A2-E3996BE1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84E-A9AA-44B3-A0F1-54F71108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B9F-E93E-4BEB-BA16-766D1ACB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84E3-3838-4C2E-8E49-0278F4F8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00000" y="-27360"/>
            <a:ext cx="633564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88D-4AB3-44DF-809E-4334291E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364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005C-85E2-44DF-B717-0BE729C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6600" y="424512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57B-C15C-453F-AA0A-243EE8B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364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6600" y="1988640"/>
            <a:ext cx="404064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3640" y="4245120"/>
            <a:ext cx="8280360" cy="20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6E08-0C48-46CA-AECE-6C89300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hyperlink" Target="https://presentation-creation.ru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f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b0f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07B0-F012-4E4A-917E-4702ABDCF181}" type="slidenum">
              <a:rPr b="0" lang="en-US" sz="1200" spc="-1" strike="noStrike">
                <a:solidFill>
                  <a:srgbClr val="00b0f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f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F45C-FFFF-43FB-850F-3085AD0C73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- старт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гра для 5 классов</a:t>
            </a:r>
            <a:endParaRPr b="0" lang="en-US" sz="2800" spc="-1" strike="noStrike">
              <a:solidFill>
                <a:srgbClr val="00b0f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50560" y="1412640"/>
            <a:ext cx="8281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ыночная цена одного красного кирпича отечественного производства с доставкой 90руб., а зарубежного 180 руб. Из какого кирпича выгоднее построить магазин, если на его строительство понадобится 4000 кирпичей? И сколько денег при этом будет сэкономлено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-27360"/>
            <a:ext cx="831708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ческая выгода/ оплата труд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3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Управляющая кнопка: возврат 4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1412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урецкая строительная фирма в Екатеринбурге  платит рабочему 14400 руб. в месяц, а отечественная 38400 руб. В турецкой фирме рабочий трудится 10 часов в сутки, а в нашей – 8 часов. Сколько стоит 1 час труда в каждой из фирм и где справедливее вознаграждение, если считать, что в месяце 24 рабочих дня?</a:t>
            </a:r>
            <a:endParaRPr b="0" lang="en-US" sz="36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-27360"/>
            <a:ext cx="828036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ческая выгода/ оплата труд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4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вод по выпуску лапши “Доширак” выпустил в январе 2465ц лапши, а в феврале на 149ц больше. Сколько центнеров лапши завод выпустил за два месяца? 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изводств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1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з 1 кг зерна выходит 800г муки. Сколько надо взять зерна, чтобы получилось 600кг муки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изводств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2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изводств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3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Объект 2"/>
          <p:cNvSpPr/>
          <p:nvPr/>
        </p:nvSpPr>
        <p:spPr>
          <a:xfrm>
            <a:off x="41292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ля того чтобы связать свитер, хозяйке нужно 900 граммов шерстяной пряжи синего цвета. Можно купить синюю пряжу по цене 70 рублей за 100 граммов, а можно купить неокрашенную пряжу по цене 60 рублей за 100 граммов и окрасить её. Один пакетик краски стоит 50 рублей и рассчитан на окраску 300 граммов пряжи. Укажите стоимость самой дешевой покупк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хнология производств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4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Объект 2"/>
          <p:cNvSpPr/>
          <p:nvPr/>
        </p:nvSpPr>
        <p:spPr>
          <a:xfrm>
            <a:off x="363600" y="1484280"/>
            <a:ext cx="8280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з 1 кг молока получается 90г сыра. Сколько сыра можно изготовить за месяц, если фермер имеет 100 коров? Средний удой коровы за месяц 18 кг 500г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отделе заказов магазина продаются готовые наборы. В набор входит:1кг мяса за 185 руб., 1кг масла за 100 руб., 500г колбасы за 138 руб. Сколько этот набор весит и сколько стоит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1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15440" y="1557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колько надо уплатить за 2кг сахара ценой 28руб.30коп. за 1кг и 2 упаковки молока по цене 25руб.90коп.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2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94920" y="1628640"/>
            <a:ext cx="8280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дна пара тапочек стоит 140 рублей, а одна пара носков стоит 70 рублей. Сколько пара тапочек нужно продать, чтобы купить 6 пар носков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3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74400" y="1483920"/>
            <a:ext cx="8281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тя решил купить телефон стоимостью 15000 рублей и наушники за 2800 руб. За 1 месяц ему платят 5800 руб., сможет ли он осуществить задуманное, если работать он может только летом?</a:t>
            </a:r>
            <a:br>
              <a:rPr sz="4000"/>
            </a:br>
            <a:r>
              <a:rPr b="0" lang="ru-RU" sz="40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говля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4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Управляющая кнопка: возврат 3"/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инка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Object 11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209080" cy="5316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#Ð´ÐµÐ½ÑÐ³Ð¸ #Ð°Ð½Ð¸Ð¼Ð°ÑÐ¸Ñ #gif"/>
          <p:cNvPicPr/>
          <p:nvPr/>
        </p:nvPicPr>
        <p:blipFill>
          <a:blip r:embed="rId1"/>
          <a:stretch/>
        </p:blipFill>
        <p:spPr>
          <a:xfrm>
            <a:off x="3035160" y="2389320"/>
            <a:ext cx="2438640" cy="3249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ÐÑÐ¾Ð·ÑÐ°ÑÐ½ÑÐ¹ ÐÐ»ÐµÑÑÐ¸Ñ Ð³Ð¸ÑÐºÐ° - ÐÑÐ¾Ð·ÑÐ°ÑÐ½ÑÐ¹ ÐÐ»ÐµÑÑÐ¸Ñ Ð¡Ð²ÐµÑÐºÐ°ÐµÑ GIF"/>
          <p:cNvPicPr/>
          <p:nvPr/>
        </p:nvPicPr>
        <p:blipFill>
          <a:blip r:embed="rId2"/>
          <a:stretch/>
        </p:blipFill>
        <p:spPr>
          <a:xfrm>
            <a:off x="5651640" y="3213000"/>
            <a:ext cx="3413160" cy="3259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ÐÐ»Ð°ÑÑ ÐÑÐ¾Ð·ÑÐ°ÑÐ½ÑÐ¹ Ð³Ð¸ÑÐºÐ° - ÐÐ»Ð°ÑÑ ÐÑÐ¾Ð·ÑÐ°ÑÐ½ÑÐ¹ ÐÐ°Ð»ÐµÑ Ð²Ð²ÐµÑÑ GIF"/>
          <p:cNvPicPr/>
          <p:nvPr/>
        </p:nvPicPr>
        <p:blipFill>
          <a:blip r:embed="rId3"/>
          <a:stretch/>
        </p:blipFill>
        <p:spPr>
          <a:xfrm>
            <a:off x="106200" y="98100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s://multiurok.ru/files/proiekt-zadachi-s-ekonomichieskim-sodierzhaniiem-v.html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s://gifer.com/ru/YARz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s://gifer.com/ru/2r68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s://yandex.ru/collections/card/59f318640c1ed2006795885a/</a:t>
            </a: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ованные источни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971640" y="1415880"/>
          <a:ext cx="7354800" cy="4938840"/>
        </p:xfrm>
        <a:graphic>
          <a:graphicData uri="http://schemas.openxmlformats.org/drawingml/2006/table">
            <a:tbl>
              <a:tblPr/>
              <a:tblGrid>
                <a:gridCol w="3394080"/>
                <a:gridCol w="1063440"/>
                <a:gridCol w="881280"/>
                <a:gridCol w="880920"/>
                <a:gridCol w="1135080"/>
              </a:tblGrid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ейный бюдж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выгода/ оплата тру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 произво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26cbec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овое пол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Управляющая кнопка: далее 4">
            <a:hlinkClick r:id="" action="ppaction://hlinkshowjump?jump=lastslide"/>
          </p:cNvPr>
          <p:cNvSpPr/>
          <p:nvPr/>
        </p:nvSpPr>
        <p:spPr>
          <a:xfrm>
            <a:off x="8172360" y="6200640"/>
            <a:ext cx="792360" cy="505080"/>
          </a:xfrm>
          <a:custGeom>
            <a:avLst/>
            <a:gdLst>
              <a:gd name="textAreaLeft" fmla="*/ 32760 w 792360"/>
              <a:gd name="textAreaRight" fmla="*/ 759960 w 79236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877" h="21600">
                <a:moveTo>
                  <a:pt x="9932" y="3794"/>
                </a:moveTo>
                <a:lnTo>
                  <a:pt x="23945" y="10800"/>
                </a:lnTo>
                <a:lnTo>
                  <a:pt x="9932" y="17806"/>
                </a:ln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18680" y="155700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мья из 4-х человек живёт в приватизированной квартире. В приватизации участвовали все 4 человека. Рассчитать налог на квартиру, если доля налога одного члена семьи составляет 79 рублей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ый бюдж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1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ец получает 8000 руб. в месяц, а мама 7500 руб. Сколько денег они зарабатывают за год? 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ый бюдж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2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казания счётчика на 28.02. – 1703, через месяц на 31.03. – 1819. Сколько нужно заплатить за электроэнергию, если 1 кВт.ч. стоит 1 руб. 50 коп.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ый бюдж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3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3640" y="1988640"/>
            <a:ext cx="82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ец получает 8000 руб. в месяц, а мама 7500 руб. Смогут ли они на деньги, заработанные за год, купить телевизор за 20000руб., если половина зарплаты уходит на бытовые расходы? 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0" y="-27360"/>
            <a:ext cx="633564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ейный бюдж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4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61800" y="1879200"/>
            <a:ext cx="828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колько денег получит рабочий за изготовление 40 деталей, если за каждую деталь ему платили 50 рублей?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827748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ческая выгода/ оплата труда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10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4400" y="1617840"/>
            <a:ext cx="828036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 один день рабочий зарабатывает 450 рублей. Сколько денег он получит, если он проработал 20 дней, и его попросят отработать 1 день в воскресенье? (выходные и праздничные дни оплачиваются в двойном размере).</a:t>
            </a:r>
            <a:endParaRPr b="0" lang="en-US" sz="4000" spc="-1" strike="noStrike">
              <a:solidFill>
                <a:srgbClr val="00b0f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-27360"/>
            <a:ext cx="8172360" cy="13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ономическая выгода/ оплата труда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имость 20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Управляющая кнопка: возврат 3">
            <a:hlinkClick r:id="rId1" action="ppaction://hlinksldjump"/>
          </p:cNvPr>
          <p:cNvSpPr/>
          <p:nvPr/>
        </p:nvSpPr>
        <p:spPr>
          <a:xfrm>
            <a:off x="8388360" y="595008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98c723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0:21:25Z</dcterms:created>
  <dc:creator>Александр</dc:creator>
  <dc:description/>
  <dc:language>en-US</dc:language>
  <cp:lastModifiedBy>ученик1</cp:lastModifiedBy>
  <dcterms:modified xsi:type="dcterms:W3CDTF">2019-03-20T07:13:07Z</dcterms:modified>
  <cp:revision>18</cp:revision>
  <dc:subject/>
  <dc:title>Бизнес- старт</dc:title>
</cp:coreProperties>
</file>